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68ABC-2B69-4545-A7E2-ED3613DF6E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F1DB1-7F22-4B43-BE65-BA127F4D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CE911-E978-436E-80C8-13FF3F87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222CC-64AE-437E-BC1A-2900418F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C6891-5C26-45F0-83AA-30459D67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156C2-100F-4FCE-9A5A-73B0EC13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F74D9-A6D4-4AD7-8D1E-CE9FC16A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92D0-8023-44FC-9837-6D838CB4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3C88-7AAB-42F5-B70A-4DA81E30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91F4-B749-43FD-BA9C-F37DC9E5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B324-240E-4161-A488-928297DD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E4C77-C8F1-42FD-A156-BB1CFD953A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8196120" y="6595920"/>
            <a:ext cx="561960" cy="1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41" name=""/>
          <p:cNvSpPr/>
          <p:nvPr/>
        </p:nvSpPr>
        <p:spPr>
          <a:xfrm>
            <a:off x="2760840" y="64911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© </a:t>
            </a:r>
            <a:r>
              <a:rPr b="0" lang="en-US" sz="1400" spc="-1" strike="noStrike">
                <a:solidFill>
                  <a:srgbClr val="969696"/>
                </a:solidFill>
                <a:latin typeface="Arial"/>
                <a:ea typeface="Arial"/>
              </a:rPr>
              <a:t>2005 South-Western/Thomson Learning</a:t>
            </a:r>
            <a:endParaRPr b="0" lang="en-US" sz="1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B2BD-0411-4974-8394-436995977A5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62240" y="255240"/>
            <a:ext cx="68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Century 21 Keyboarding</a:t>
            </a: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312640" y="1149480"/>
            <a:ext cx="6575400" cy="46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ycle 3: Unit 23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Lesson 81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MLA-style reports and outlin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Lesson 84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News releases and minut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E1A2-0546-44F4-8D98-6DE9B6F0E5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MLA Report</a:t>
            </a:r>
            <a:endParaRPr b="0" lang="en-US" sz="36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3846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ader and page number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ne spacing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port identificatio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port titl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ntations and long quote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60840" y="64785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 23: Lesson 81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049640" y="528480"/>
            <a:ext cx="4570560" cy="5873760"/>
            <a:chOff x="4049640" y="528480"/>
            <a:chExt cx="4570560" cy="5873760"/>
          </a:xfrm>
        </p:grpSpPr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4049640" y="528480"/>
              <a:ext cx="4570560" cy="587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078440" y="900000"/>
              <a:ext cx="493560" cy="140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78440" y="2423880"/>
              <a:ext cx="639720" cy="130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37120" y="6109920"/>
              <a:ext cx="4425840" cy="20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81840" y="5746680"/>
              <a:ext cx="493560" cy="21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55000" y="3541320"/>
              <a:ext cx="507960" cy="21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70480" y="1958760"/>
              <a:ext cx="36360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68960" y="561600"/>
              <a:ext cx="449280" cy="53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08400" y="1668240"/>
              <a:ext cx="13176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81880" y="1839600"/>
              <a:ext cx="13176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159760" y="757080"/>
              <a:ext cx="30492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649920" y="1790640"/>
            <a:ext cx="257400" cy="171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467400" y="731880"/>
            <a:ext cx="476280" cy="171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246720" y="550800"/>
            <a:ext cx="133560" cy="647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7905600" y="3503520"/>
            <a:ext cx="962280" cy="200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3701880" y="3500280"/>
            <a:ext cx="962280" cy="200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5877000" y="5762520"/>
            <a:ext cx="961920" cy="152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3941640" y="2684520"/>
            <a:ext cx="1028880" cy="704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3782880" y="1728720"/>
            <a:ext cx="914400" cy="466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431120" y="668160"/>
            <a:ext cx="739800" cy="304920"/>
          </a:xfrm>
          <a:prstGeom prst="rect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1"/>
          <a:stretch/>
        </p:blipFill>
        <p:spPr>
          <a:xfrm>
            <a:off x="5405400" y="1654200"/>
            <a:ext cx="257040" cy="171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492800" y="979560"/>
            <a:ext cx="855360" cy="784080"/>
          </a:xfrm>
          <a:prstGeom prst="rect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MLA Report – Page 2</a:t>
            </a:r>
            <a:endParaRPr b="0" lang="en-US" sz="36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60840" y="64785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 23: Lesson 81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2120" y="1258920"/>
            <a:ext cx="7619760" cy="2882880"/>
            <a:chOff x="762120" y="1258920"/>
            <a:chExt cx="7619760" cy="288288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762120" y="1258920"/>
              <a:ext cx="7619760" cy="28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55720" y="3524400"/>
              <a:ext cx="167004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451400" y="1305000"/>
            <a:ext cx="173160" cy="834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566120" y="1719360"/>
            <a:ext cx="542880" cy="199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4605480" y="1630440"/>
            <a:ext cx="428400" cy="17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MLA Report – Works Cited</a:t>
            </a:r>
            <a:endParaRPr b="0" lang="en-US" sz="36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60840" y="64785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 23: Lesson 81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62120" y="958680"/>
            <a:ext cx="7619760" cy="3340080"/>
            <a:chOff x="762120" y="958680"/>
            <a:chExt cx="7619760" cy="334008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762120" y="958680"/>
              <a:ext cx="7619760" cy="33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900000" y="3641400"/>
              <a:ext cx="2627280" cy="29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55560" y="2349360"/>
            <a:ext cx="1009800" cy="533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4897440" y="2017800"/>
            <a:ext cx="247680" cy="180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4451400" y="1006560"/>
            <a:ext cx="169920" cy="839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608360" y="1263600"/>
            <a:ext cx="419400" cy="209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7613640" y="1427040"/>
            <a:ext cx="504720" cy="1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484520" y="639720"/>
            <a:ext cx="4467240" cy="5773680"/>
            <a:chOff x="4484520" y="639720"/>
            <a:chExt cx="4467240" cy="577368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4484520" y="639720"/>
              <a:ext cx="446724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4543560" y="3381480"/>
              <a:ext cx="37620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05720" y="3367080"/>
              <a:ext cx="392040" cy="26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61000" y="652320"/>
              <a:ext cx="884520" cy="98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46920" y="1854360"/>
              <a:ext cx="14616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48440" y="2050920"/>
              <a:ext cx="146160" cy="10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Meeting Minutes</a:t>
            </a:r>
            <a:endParaRPr b="0" lang="en-US" sz="36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56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 format guides for unbound report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nal spacing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60840" y="64785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 23: Lesson 84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781680" y="946080"/>
            <a:ext cx="1209960" cy="352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543720" y="658800"/>
            <a:ext cx="233280" cy="968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4286160" y="3257640"/>
            <a:ext cx="571680" cy="342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8331120" y="3344760"/>
            <a:ext cx="581040" cy="371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7021440" y="2021040"/>
            <a:ext cx="209520" cy="161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6959520" y="1811160"/>
            <a:ext cx="209520" cy="1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4397400" y="641520"/>
            <a:ext cx="4470480" cy="5776920"/>
            <a:chOff x="4397400" y="641520"/>
            <a:chExt cx="4470480" cy="5776920"/>
          </a:xfrm>
        </p:grpSpPr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4397400" y="641520"/>
              <a:ext cx="4470480" cy="57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427640" y="3381480"/>
              <a:ext cx="492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32640" y="3395520"/>
              <a:ext cx="363600" cy="23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97760" y="3511440"/>
              <a:ext cx="203040" cy="16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39240" y="1860480"/>
              <a:ext cx="203040" cy="16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83360" y="668160"/>
              <a:ext cx="806400" cy="100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ews Release</a:t>
            </a:r>
            <a:endParaRPr b="0" lang="en-US" sz="36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41655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 format guides for unbound report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nal spacing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ecial parts: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s releas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releas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###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60840" y="64785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 23: Lesson 84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394240" y="954000"/>
            <a:ext cx="1228680" cy="362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292720" y="669960"/>
            <a:ext cx="123840" cy="990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8410680" y="3344760"/>
            <a:ext cx="590400" cy="343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4262400" y="3247920"/>
            <a:ext cx="619200" cy="362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7080120" y="3516480"/>
            <a:ext cx="266760" cy="171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8161200" y="1854360"/>
            <a:ext cx="266760" cy="171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905360" y="1566720"/>
            <a:ext cx="827280" cy="27648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570120"/>
            <a:ext cx="477720" cy="23184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94360" y="1582560"/>
            <a:ext cx="1393920" cy="2034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83360" y="1741320"/>
            <a:ext cx="1146240" cy="1605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5:00:00Z</dcterms:created>
  <dc:creator/>
  <dc:description/>
  <dc:language>en-US</dc:language>
  <cp:lastModifiedBy/>
  <dcterms:modified xsi:type="dcterms:W3CDTF">2009-03-03T13:58:24Z</dcterms:modified>
  <cp:revision>2</cp:revision>
  <dc:subject/>
  <dc:title>Century 21 Keyboarding</dc:title>
</cp:coreProperties>
</file>