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4.jpeg" ContentType="image/jpeg"/>
  <Override PartName="/ppt/media/image25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22.jpeg" ContentType="image/jpeg"/>
  <Override PartName="/ppt/media/image9.png" ContentType="image/png"/>
  <Override PartName="/ppt/media/image11.png" ContentType="image/png"/>
  <Override PartName="/ppt/media/image12.jpeg" ContentType="image/jpeg"/>
  <Override PartName="/ppt/media/image13.png" ContentType="image/png"/>
  <Override PartName="/ppt/media/image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2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68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336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3C908-0E78-42AC-9D42-7A56B59D6C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6E074-8F3A-42C7-B815-9A3062465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08118-2EAA-4966-A160-ABFCD6752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65DB8-E239-4D6C-A3AB-7B5670A01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91F03-BB7F-4655-822F-C5B68F8C0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0" y="-7668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CA135-B1EA-4212-A31F-26E67B39E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10F3D-2210-4F6C-B244-D8F16713F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15286-9C2B-47D7-ACA5-3FF288FDF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2652D-E721-4834-8105-E898CFFCC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016E3-38FA-4DAA-B469-E66FAF84B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5C1B2-1086-419D-884F-83677AE3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09168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8336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57284-8810-4A3C-85E4-4AE4D31A0C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969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7668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49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8196120" y="6595920"/>
            <a:ext cx="561960" cy="19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30481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41" name=""/>
          <p:cNvSpPr/>
          <p:nvPr/>
        </p:nvSpPr>
        <p:spPr>
          <a:xfrm>
            <a:off x="2760840" y="649116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  <a:ea typeface="Arial"/>
              </a:rPr>
              <a:t>© </a:t>
            </a:r>
            <a:r>
              <a:rPr b="0" lang="en-US" sz="1400" spc="-1" strike="noStrike">
                <a:solidFill>
                  <a:srgbClr val="969696"/>
                </a:solidFill>
                <a:latin typeface="Arial"/>
                <a:ea typeface="Arial"/>
              </a:rPr>
              <a:t>2005 South-Western/Thomson Learning</a:t>
            </a:r>
            <a:endParaRPr b="0" lang="en-US" sz="1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1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072BD-092A-4AB2-86AD-FE46F2CB479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2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62240" y="255240"/>
            <a:ext cx="68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Century 21 Keyboarding</a:t>
            </a:r>
            <a:endParaRPr b="0" lang="en-US" sz="40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312640" y="1149480"/>
            <a:ext cx="6575400" cy="46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ycle 3: Unit 23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hlinkClick r:id="rId2" action="ppaction://hlinksldjump"/>
              </a:rPr>
              <a:t>Lesson 81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MLA-style reports and outline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hlinkClick r:id="rId3" action="ppaction://hlinksldjump"/>
              </a:rPr>
              <a:t>Lesson 84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News releases and minute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238880" y="662940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8AA4A-85A2-482D-BA70-7C0704ECCB4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MLA Report</a:t>
            </a:r>
            <a:endParaRPr b="0" lang="en-US" sz="36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-360" y="761760"/>
            <a:ext cx="3846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rgin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eader and page number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ine spacing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port identification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port title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dentations and long quote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760840" y="647856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 23: Lesson 81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4049640" y="528480"/>
            <a:ext cx="4570560" cy="5873760"/>
            <a:chOff x="4049640" y="528480"/>
            <a:chExt cx="4570560" cy="5873760"/>
          </a:xfrm>
        </p:grpSpPr>
        <p:pic>
          <p:nvPicPr>
            <p:cNvPr id="88" name="" descr=""/>
            <p:cNvPicPr/>
            <p:nvPr/>
          </p:nvPicPr>
          <p:blipFill>
            <a:blip r:embed="rId2"/>
            <a:stretch/>
          </p:blipFill>
          <p:spPr>
            <a:xfrm>
              <a:off x="4049640" y="528480"/>
              <a:ext cx="4570560" cy="587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4078440" y="900000"/>
              <a:ext cx="493560" cy="1407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078440" y="2423880"/>
              <a:ext cx="639720" cy="1306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137120" y="6109920"/>
              <a:ext cx="4425840" cy="20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081840" y="5746680"/>
              <a:ext cx="493560" cy="21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55000" y="3541320"/>
              <a:ext cx="507960" cy="21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470480" y="1958760"/>
              <a:ext cx="363600" cy="14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168960" y="561600"/>
              <a:ext cx="449280" cy="536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108400" y="1668240"/>
              <a:ext cx="131760" cy="13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581880" y="1839600"/>
              <a:ext cx="131760" cy="13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159760" y="757080"/>
              <a:ext cx="30492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649920" y="1790640"/>
            <a:ext cx="257400" cy="171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6467400" y="731880"/>
            <a:ext cx="476280" cy="171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6246720" y="550800"/>
            <a:ext cx="133560" cy="647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7905600" y="3503520"/>
            <a:ext cx="962280" cy="2001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7"/>
          <a:stretch/>
        </p:blipFill>
        <p:spPr>
          <a:xfrm>
            <a:off x="3701880" y="3500280"/>
            <a:ext cx="962280" cy="2001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8"/>
          <a:stretch/>
        </p:blipFill>
        <p:spPr>
          <a:xfrm>
            <a:off x="5877000" y="5762520"/>
            <a:ext cx="961920" cy="152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9"/>
          <a:stretch/>
        </p:blipFill>
        <p:spPr>
          <a:xfrm>
            <a:off x="3941640" y="2684520"/>
            <a:ext cx="1028880" cy="704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0"/>
          <a:stretch/>
        </p:blipFill>
        <p:spPr>
          <a:xfrm>
            <a:off x="3782880" y="1728720"/>
            <a:ext cx="914400" cy="466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7431120" y="668160"/>
            <a:ext cx="739800" cy="304920"/>
          </a:xfrm>
          <a:prstGeom prst="rect">
            <a:avLst/>
          </a:pr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1"/>
          <a:stretch/>
        </p:blipFill>
        <p:spPr>
          <a:xfrm>
            <a:off x="5405400" y="1654200"/>
            <a:ext cx="257040" cy="1713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492800" y="979560"/>
            <a:ext cx="855360" cy="784080"/>
          </a:xfrm>
          <a:prstGeom prst="rect">
            <a:avLst/>
          </a:pr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MLA Report – Page 2</a:t>
            </a:r>
            <a:endParaRPr b="0" lang="en-US" sz="36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60840" y="647856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 23: Lesson 81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2120" y="1258920"/>
            <a:ext cx="7619760" cy="2882880"/>
            <a:chOff x="762120" y="1258920"/>
            <a:chExt cx="7619760" cy="2882880"/>
          </a:xfrm>
        </p:grpSpPr>
        <p:pic>
          <p:nvPicPr>
            <p:cNvPr id="114" name="" descr=""/>
            <p:cNvPicPr/>
            <p:nvPr/>
          </p:nvPicPr>
          <p:blipFill>
            <a:blip r:embed="rId2"/>
            <a:stretch/>
          </p:blipFill>
          <p:spPr>
            <a:xfrm>
              <a:off x="762120" y="1258920"/>
              <a:ext cx="7619760" cy="288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855720" y="3524400"/>
              <a:ext cx="1670040" cy="27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451400" y="1305000"/>
            <a:ext cx="173160" cy="8348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566120" y="1719360"/>
            <a:ext cx="542880" cy="1998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4605480" y="1630440"/>
            <a:ext cx="428400" cy="17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MLA Report – Works Cited</a:t>
            </a:r>
            <a:endParaRPr b="0" lang="en-US" sz="36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60840" y="647856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 23: Lesson 81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762120" y="958680"/>
            <a:ext cx="7619760" cy="3340080"/>
            <a:chOff x="762120" y="958680"/>
            <a:chExt cx="7619760" cy="3340080"/>
          </a:xfrm>
        </p:grpSpPr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762120" y="958680"/>
              <a:ext cx="7619760" cy="334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900000" y="3641400"/>
              <a:ext cx="2627280" cy="29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655560" y="2349360"/>
            <a:ext cx="1009800" cy="5335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4897440" y="2017800"/>
            <a:ext cx="247680" cy="180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4451400" y="1006560"/>
            <a:ext cx="169920" cy="8398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4608360" y="1263600"/>
            <a:ext cx="419400" cy="2095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7613640" y="1427040"/>
            <a:ext cx="504720" cy="1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4484520" y="639720"/>
            <a:ext cx="4467240" cy="5773680"/>
            <a:chOff x="4484520" y="639720"/>
            <a:chExt cx="4467240" cy="5773680"/>
          </a:xfrm>
        </p:grpSpPr>
        <p:pic>
          <p:nvPicPr>
            <p:cNvPr id="131" name="" descr=""/>
            <p:cNvPicPr/>
            <p:nvPr/>
          </p:nvPicPr>
          <p:blipFill>
            <a:blip r:embed="rId2"/>
            <a:stretch/>
          </p:blipFill>
          <p:spPr>
            <a:xfrm>
              <a:off x="4484520" y="639720"/>
              <a:ext cx="446724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4543560" y="3381480"/>
              <a:ext cx="376200" cy="27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505720" y="3367080"/>
              <a:ext cx="392040" cy="26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561000" y="652320"/>
              <a:ext cx="884520" cy="98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946920" y="1854360"/>
              <a:ext cx="146160" cy="10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048440" y="2050920"/>
              <a:ext cx="146160" cy="10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Meeting Minutes</a:t>
            </a:r>
            <a:endParaRPr b="0" lang="en-US" sz="36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560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se format guides for unbound report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rgin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nal spacing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60840" y="647856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 23: Lesson 84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6781680" y="946080"/>
            <a:ext cx="1209960" cy="3524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6543720" y="658800"/>
            <a:ext cx="233280" cy="9684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4286160" y="3257640"/>
            <a:ext cx="571680" cy="342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8331120" y="3344760"/>
            <a:ext cx="581040" cy="3715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7"/>
          <a:stretch/>
        </p:blipFill>
        <p:spPr>
          <a:xfrm>
            <a:off x="7021440" y="2021040"/>
            <a:ext cx="209520" cy="1616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8"/>
          <a:stretch/>
        </p:blipFill>
        <p:spPr>
          <a:xfrm>
            <a:off x="6959520" y="1811160"/>
            <a:ext cx="209520" cy="16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4397400" y="641520"/>
            <a:ext cx="4470480" cy="5776920"/>
            <a:chOff x="4397400" y="641520"/>
            <a:chExt cx="4470480" cy="5776920"/>
          </a:xfrm>
        </p:grpSpPr>
        <p:pic>
          <p:nvPicPr>
            <p:cNvPr id="147" name="" descr=""/>
            <p:cNvPicPr/>
            <p:nvPr/>
          </p:nvPicPr>
          <p:blipFill>
            <a:blip r:embed="rId2"/>
            <a:stretch/>
          </p:blipFill>
          <p:spPr>
            <a:xfrm>
              <a:off x="4397400" y="641520"/>
              <a:ext cx="4470480" cy="577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4427640" y="3381480"/>
              <a:ext cx="4921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432640" y="3395520"/>
              <a:ext cx="363600" cy="23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097760" y="3511440"/>
              <a:ext cx="203040" cy="16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39240" y="1860480"/>
              <a:ext cx="203040" cy="16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283360" y="668160"/>
              <a:ext cx="806400" cy="100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News Release</a:t>
            </a:r>
            <a:endParaRPr b="0" lang="en-US" sz="3600" spc="-1" strike="noStrike">
              <a:solidFill>
                <a:srgbClr val="969696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-360" y="761760"/>
            <a:ext cx="41655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se format guides for unbound report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nal spacing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pecial parts: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ews releas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releas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###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60840" y="647856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 23: Lesson 84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5394240" y="954000"/>
            <a:ext cx="1228680" cy="3621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5292720" y="669960"/>
            <a:ext cx="123840" cy="9907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8410680" y="3344760"/>
            <a:ext cx="590400" cy="3430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4262400" y="3247920"/>
            <a:ext cx="619200" cy="3621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7"/>
          <a:stretch/>
        </p:blipFill>
        <p:spPr>
          <a:xfrm>
            <a:off x="7080120" y="3516480"/>
            <a:ext cx="266760" cy="1713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8"/>
          <a:stretch/>
        </p:blipFill>
        <p:spPr>
          <a:xfrm>
            <a:off x="8161200" y="1854360"/>
            <a:ext cx="266760" cy="1713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905360" y="1566720"/>
            <a:ext cx="827280" cy="27648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72360" y="3570120"/>
            <a:ext cx="477720" cy="23184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94360" y="1582560"/>
            <a:ext cx="1393920" cy="2034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083360" y="1741320"/>
            <a:ext cx="1146240" cy="1605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  <p:animClr clrSpc="rgb">
                                <p:cBhvr>
                                  <p:cTn id="1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5:00:00Z</dcterms:created>
  <dc:creator/>
  <dc:description/>
  <dc:language>en-US</dc:language>
  <cp:lastModifiedBy/>
  <dcterms:modified xsi:type="dcterms:W3CDTF">2009-03-03T13:58:24Z</dcterms:modified>
  <cp:revision>2</cp:revision>
  <dc:subject/>
  <dc:title>Century 21 Keyboarding</dc:title>
</cp:coreProperties>
</file>