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B566-C4BD-4354-BFCE-18FA5A0F4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63FF-20C9-4E51-B17B-C402C592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9E88-6CF9-4572-9370-E8C0550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F458-F7CD-4860-9C01-9252299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808E-80CB-48C7-B3E6-44D478BE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CCC6-8043-47CA-AB35-3EA1BD50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77CF-4AD0-487A-9AF3-E07DB0F7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A1B3-A4AB-4A7F-8952-A6CA4DA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5A8-EAE2-4686-867A-56D13CDD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3FC0-7F3F-4E42-9EE4-979ADE4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FEBA-4503-42F0-A514-6CE17EF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94C3-50EE-49C8-8051-660A32A5F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96120" y="6595920"/>
            <a:ext cx="5619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2760840" y="6491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  <a:ea typeface="Arial"/>
              </a:rPr>
              <a:t>2005 South-Western/Thomson Learning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CDCB-9843-428B-9E15-63AF93BA9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2240" y="255240"/>
            <a:ext cx="68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entury 21 Keyboarding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12640" y="1149480"/>
            <a:ext cx="6575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ycle 3: Unit 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Lesson 8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MLA-style reports and outlin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Lesson 8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News releases and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A95-180E-4988-A810-F17BD04E7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4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der and page numbe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identific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titl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ntations and long quot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049640" y="528480"/>
            <a:ext cx="4570560" cy="5873760"/>
            <a:chOff x="4049640" y="528480"/>
            <a:chExt cx="4570560" cy="58737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049640" y="528480"/>
              <a:ext cx="4570560" cy="58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78440" y="900000"/>
              <a:ext cx="49356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8440" y="2423880"/>
              <a:ext cx="639720" cy="13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6109920"/>
              <a:ext cx="44258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1840" y="5746680"/>
              <a:ext cx="4935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55000" y="3541320"/>
              <a:ext cx="50796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58760"/>
              <a:ext cx="36360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8960" y="561600"/>
              <a:ext cx="4492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8400" y="1668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1880" y="183960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9760" y="757080"/>
              <a:ext cx="304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49920" y="1790640"/>
            <a:ext cx="25740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67400" y="731880"/>
            <a:ext cx="47628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46720" y="550800"/>
            <a:ext cx="13356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905600" y="350352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701880" y="350028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877000" y="5762520"/>
            <a:ext cx="961920" cy="1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41640" y="2684520"/>
            <a:ext cx="10288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782880" y="1728720"/>
            <a:ext cx="914400" cy="4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31120" y="668160"/>
            <a:ext cx="739800" cy="3049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405400" y="1654200"/>
            <a:ext cx="25704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92800" y="979560"/>
            <a:ext cx="855360" cy="78408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Page 2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258920"/>
            <a:ext cx="7619760" cy="2882880"/>
            <a:chOff x="762120" y="1258920"/>
            <a:chExt cx="7619760" cy="2882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62120" y="1258920"/>
              <a:ext cx="7619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55720" y="3524400"/>
              <a:ext cx="16700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51400" y="1305000"/>
            <a:ext cx="173160" cy="83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66120" y="1719360"/>
            <a:ext cx="542880" cy="19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05480" y="1630440"/>
            <a:ext cx="428400" cy="1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Works Cited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120" y="958680"/>
            <a:ext cx="7619760" cy="3340080"/>
            <a:chOff x="762120" y="958680"/>
            <a:chExt cx="7619760" cy="3340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62120" y="958680"/>
              <a:ext cx="761976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00000" y="3641400"/>
              <a:ext cx="26272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5560" y="2349360"/>
            <a:ext cx="100980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97440" y="2017800"/>
            <a:ext cx="247680" cy="18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51400" y="1006560"/>
            <a:ext cx="16992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08360" y="1263600"/>
            <a:ext cx="419400" cy="20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613640" y="1427040"/>
            <a:ext cx="504720" cy="1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484520" y="639720"/>
            <a:ext cx="4467240" cy="5773680"/>
            <a:chOff x="4484520" y="639720"/>
            <a:chExt cx="4467240" cy="57736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484520" y="639720"/>
              <a:ext cx="446724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43560" y="3381480"/>
              <a:ext cx="3762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3367080"/>
              <a:ext cx="392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61000" y="652320"/>
              <a:ext cx="8845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1854360"/>
              <a:ext cx="1461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440" y="2050920"/>
              <a:ext cx="1461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eeting Minutes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5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81680" y="946080"/>
            <a:ext cx="1209960" cy="35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543720" y="658800"/>
            <a:ext cx="2332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286160" y="325764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31120" y="3344760"/>
            <a:ext cx="581040" cy="37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021440" y="202104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959520" y="1811160"/>
            <a:ext cx="209520" cy="1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397400" y="641520"/>
            <a:ext cx="4470480" cy="5776920"/>
            <a:chOff x="4397400" y="641520"/>
            <a:chExt cx="4470480" cy="5776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397400" y="641520"/>
              <a:ext cx="4470480" cy="57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3381480"/>
              <a:ext cx="492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3395520"/>
              <a:ext cx="363600" cy="2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97760" y="351144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186048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3360" y="668160"/>
              <a:ext cx="806400" cy="10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ews Release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16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parts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##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94240" y="954000"/>
            <a:ext cx="1228680" cy="36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669960"/>
            <a:ext cx="12384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3344760"/>
            <a:ext cx="590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262400" y="3247920"/>
            <a:ext cx="619200" cy="3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080120" y="3516480"/>
            <a:ext cx="266760" cy="171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61200" y="1854360"/>
            <a:ext cx="266760" cy="17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05360" y="1566720"/>
            <a:ext cx="827280" cy="276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570120"/>
            <a:ext cx="477720" cy="2318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4360" y="1582560"/>
            <a:ext cx="1393920" cy="2034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741320"/>
            <a:ext cx="1146240" cy="160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3-03T13:58:24Z</dcterms:modified>
  <cp:revision>2</cp:revision>
  <dc:subject/>
  <dc:title>Century 21 Keyboarding</dc:title>
</cp:coreProperties>
</file>