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B6F7-685E-4837-9DC0-EA90CCC6F4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4F75-7FE2-4F9F-A57B-16C39F5A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010D-4F5F-42DB-9D75-782DF364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2144-EF33-4780-8DAA-6525A649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5EC05-F31D-435E-BB7A-7F356938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D3A1-C6C8-4462-AEB9-336E17C6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A2E5-2C77-4DBF-83A9-51AB98E9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3850-FCCE-4A73-A709-66535BD4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F54E-2276-40BE-9B1E-CD8E1D06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EDC9-E064-40DD-98E0-6D73E3E7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0C05-7222-4C80-96F2-B8DF623C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CC50-CA19-4D58-B0E6-79D38283DE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196120" y="6595920"/>
            <a:ext cx="561960" cy="1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41" name=""/>
          <p:cNvSpPr/>
          <p:nvPr/>
        </p:nvSpPr>
        <p:spPr>
          <a:xfrm>
            <a:off x="2760840" y="64911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© </a:t>
            </a:r>
            <a:r>
              <a:rPr b="0" lang="en-US" sz="1400" spc="-1" strike="noStrike">
                <a:solidFill>
                  <a:srgbClr val="969696"/>
                </a:solidFill>
                <a:latin typeface="Arial"/>
                <a:ea typeface="Arial"/>
              </a:rPr>
              <a:t>2005 South-Western/Thomson Learning</a:t>
            </a:r>
            <a:endParaRPr b="0" lang="en-US" sz="1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672B-3533-4CEA-B1BC-C5EFAE5AEA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62240" y="255240"/>
            <a:ext cx="68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Century 21 Keyboarding</a:t>
            </a: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312640" y="1149480"/>
            <a:ext cx="6575400" cy="46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ycle 3: Unit 23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Lesson 81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MLA-style reports and outlin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Lesson 84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News releases and minut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879D-4BCD-4884-91AC-6699985E28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MLA Report</a:t>
            </a:r>
            <a:endParaRPr b="0" lang="en-US" sz="36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3846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ader and page number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ne spacing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ort identificatio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ort titl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ntations and long quot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60840" y="64785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 23: Lesson 81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049640" y="528480"/>
            <a:ext cx="4570560" cy="5873760"/>
            <a:chOff x="4049640" y="528480"/>
            <a:chExt cx="4570560" cy="587376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4049640" y="528480"/>
              <a:ext cx="4570560" cy="587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078440" y="900000"/>
              <a:ext cx="493560" cy="140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78440" y="2423880"/>
              <a:ext cx="639720" cy="13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37120" y="6109920"/>
              <a:ext cx="442584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81840" y="5746680"/>
              <a:ext cx="493560" cy="21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55000" y="3541320"/>
              <a:ext cx="507960" cy="21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70480" y="1958760"/>
              <a:ext cx="36360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68960" y="561600"/>
              <a:ext cx="449280" cy="53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08400" y="166824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81880" y="183960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59760" y="757080"/>
              <a:ext cx="30492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649920" y="1790640"/>
            <a:ext cx="257400" cy="171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467400" y="731880"/>
            <a:ext cx="476280" cy="17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246720" y="550800"/>
            <a:ext cx="133560" cy="647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7905600" y="3503520"/>
            <a:ext cx="962280" cy="200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3701880" y="3500280"/>
            <a:ext cx="962280" cy="200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5877000" y="5762520"/>
            <a:ext cx="961920" cy="152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3941640" y="2684520"/>
            <a:ext cx="1028880" cy="70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3782880" y="1728720"/>
            <a:ext cx="914400" cy="466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431120" y="668160"/>
            <a:ext cx="739800" cy="30492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5405400" y="1654200"/>
            <a:ext cx="257040" cy="171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492800" y="979560"/>
            <a:ext cx="855360" cy="78408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MLA Report – Page 2</a:t>
            </a:r>
            <a:endParaRPr b="0" lang="en-US" sz="36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60840" y="64785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 23: Lesson 81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2120" y="1258920"/>
            <a:ext cx="7619760" cy="2882880"/>
            <a:chOff x="762120" y="1258920"/>
            <a:chExt cx="7619760" cy="288288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762120" y="1258920"/>
              <a:ext cx="7619760" cy="28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55720" y="3524400"/>
              <a:ext cx="167004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451400" y="1305000"/>
            <a:ext cx="173160" cy="834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566120" y="1719360"/>
            <a:ext cx="542880" cy="199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605480" y="1630440"/>
            <a:ext cx="428400" cy="1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MLA Report – Works Cited</a:t>
            </a:r>
            <a:endParaRPr b="0" lang="en-US" sz="36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60840" y="64785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 23: Lesson 81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62120" y="958680"/>
            <a:ext cx="7619760" cy="3340080"/>
            <a:chOff x="762120" y="958680"/>
            <a:chExt cx="7619760" cy="33400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762120" y="958680"/>
              <a:ext cx="7619760" cy="33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900000" y="3641400"/>
              <a:ext cx="262728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55560" y="2349360"/>
            <a:ext cx="1009800" cy="533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897440" y="2017800"/>
            <a:ext cx="247680" cy="180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451400" y="1006560"/>
            <a:ext cx="169920" cy="839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608360" y="1263600"/>
            <a:ext cx="419400" cy="209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7613640" y="1427040"/>
            <a:ext cx="504720" cy="1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484520" y="639720"/>
            <a:ext cx="4467240" cy="5773680"/>
            <a:chOff x="4484520" y="639720"/>
            <a:chExt cx="4467240" cy="577368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4484520" y="639720"/>
              <a:ext cx="446724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543560" y="3381480"/>
              <a:ext cx="37620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05720" y="3367080"/>
              <a:ext cx="39204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61000" y="652320"/>
              <a:ext cx="884520" cy="9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46920" y="1854360"/>
              <a:ext cx="14616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48440" y="2050920"/>
              <a:ext cx="146160" cy="10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Meeting Minutes</a:t>
            </a:r>
            <a:endParaRPr b="0" lang="en-US" sz="36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5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 format guides for unbound report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nal spacing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60840" y="64785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 23: Lesson 84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781680" y="946080"/>
            <a:ext cx="1209960" cy="352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543720" y="658800"/>
            <a:ext cx="233280" cy="968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286160" y="3257640"/>
            <a:ext cx="571680" cy="342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8331120" y="3344760"/>
            <a:ext cx="581040" cy="371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7021440" y="2021040"/>
            <a:ext cx="209520" cy="161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959520" y="1811160"/>
            <a:ext cx="209520" cy="1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4397400" y="641520"/>
            <a:ext cx="4470480" cy="5776920"/>
            <a:chOff x="4397400" y="641520"/>
            <a:chExt cx="4470480" cy="577692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4397400" y="641520"/>
              <a:ext cx="4470480" cy="57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427640" y="3381480"/>
              <a:ext cx="492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32640" y="3395520"/>
              <a:ext cx="363600" cy="23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97760" y="3511440"/>
              <a:ext cx="203040" cy="16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39240" y="1860480"/>
              <a:ext cx="203040" cy="16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83360" y="668160"/>
              <a:ext cx="806400" cy="10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ews Release</a:t>
            </a:r>
            <a:endParaRPr b="0" lang="en-US" sz="36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41655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 format guides for unbound report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nal spacing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cial parts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s releas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releas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###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60840" y="64785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 23: Lesson 84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394240" y="954000"/>
            <a:ext cx="1228680" cy="362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292720" y="669960"/>
            <a:ext cx="123840" cy="990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8410680" y="3344760"/>
            <a:ext cx="590400" cy="343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4262400" y="3247920"/>
            <a:ext cx="619200" cy="362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7080120" y="3516480"/>
            <a:ext cx="266760" cy="171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8161200" y="1854360"/>
            <a:ext cx="266760" cy="171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905360" y="1566720"/>
            <a:ext cx="827280" cy="2764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570120"/>
            <a:ext cx="477720" cy="23184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4360" y="1582560"/>
            <a:ext cx="1393920" cy="2034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3360" y="1741320"/>
            <a:ext cx="1146240" cy="1605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/>
  <dc:language>en-US</dc:language>
  <cp:lastModifiedBy/>
  <dcterms:modified xsi:type="dcterms:W3CDTF">2009-03-03T13:58:24Z</dcterms:modified>
  <cp:revision>2</cp:revision>
  <dc:subject/>
  <dc:title>Century 21 Keyboarding</dc:title>
</cp:coreProperties>
</file>