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F651-7CEC-4F16-98AF-BE69561D9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F52D-5CA3-485F-B19F-9433BD65F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ACBB-5052-4BF8-9901-51FC9EC0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4F66-80F2-484A-A5DE-AAE1445CF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C819-1B89-473F-8513-C424A9EF8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591-7F6A-4405-B7DD-F4A9A6B90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B774-30C2-4B2B-AD2D-F01133F2E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6DB1-21E2-469A-A0EC-2F5B7586C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72E2-4905-428F-B2FE-443EF757E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D269-7FB7-43F2-9227-F72CDFA17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D420-9098-486D-945F-8C014F5F8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F754-8CD5-4F35-80A5-FC184374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82C7-F53B-4C81-8D84-995D97161F5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3"/>
          <a:stretch/>
        </p:blipFill>
        <p:spPr>
          <a:xfrm>
            <a:off x="0" y="4680"/>
            <a:ext cx="10303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6489720"/>
            <a:ext cx="571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Thomson/South-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2-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Payroll Chec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ROLL BANK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5486400"/>
            <a:ext cx="32050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040" y="1870200"/>
            <a:ext cx="8555040" cy="3431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040" y="58514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B2E8-E0ED-4BFC-8BE9-ADBE7B430825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’S PAYROLL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518" b="14606"/>
          <a:stretch/>
        </p:blipFill>
        <p:spPr>
          <a:xfrm>
            <a:off x="304920" y="1828800"/>
            <a:ext cx="8534160" cy="33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3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9320" y="5486400"/>
            <a:ext cx="77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he check stub of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4640" y="5851440"/>
            <a:ext cx="57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each employee’s payroll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4680" y="1600200"/>
            <a:ext cx="41148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5760" y="1600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-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BE53-8629-499C-AF87-CD7C61B070DB}" type="slidenum">
              <a:t>3</a:t>
            </a:fld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0:40Z</dcterms:created>
  <dc:creator>M. C. McLaughlin</dc:creator>
  <dc:description/>
  <dc:language>en-US</dc:language>
  <cp:lastModifiedBy>christy.laubach</cp:lastModifiedBy>
  <dcterms:modified xsi:type="dcterms:W3CDTF">2007-03-09T16:02:29Z</dcterms:modified>
  <cp:revision>16</cp:revision>
  <dc:subject/>
  <dc:title>Lesson 12-1</dc:title>
</cp:coreProperties>
</file>