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8BF3-974A-4A90-8D0C-5F964E99A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3124-EA80-49C7-8DB6-BD55644E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0F86-7617-4E95-A1A9-D68256B80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9B98-A249-4B02-8282-6E46EE3BE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A119-F3D0-4E7E-9B25-9DF6CE810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9F84-3A2F-4B48-A6E1-01F580851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F587-E300-4322-B588-9D20CD97A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2219-E2C8-47E8-9B70-DFB183CE3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4B11-B55A-438D-8109-D34E2ACEF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B797-0A47-4C1F-86C0-C277C522F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959A-E2BD-4284-A2B4-1479A24A5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9EFF-2982-4CC2-B861-538461A4A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2EE0-AD44-476F-9861-1B5E49C3A7E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E3B4-9542-4001-A7E4-0987B16FCA89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8D74-A9CA-49FB-BF55-FA3CC4375CB7}" type="slidenum">
              <a:t>3</a:t>
            </a:fld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29Z</dcterms:modified>
  <cp:revision>16</cp:revision>
  <dc:subject/>
  <dc:title>Lesson 12-1</dc:title>
</cp:coreProperties>
</file>