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7DDC-FCD9-48F4-BFDE-EC19C1FCB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5122-15DC-4B70-AE5D-BD4640FC6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AA72-E646-4419-B8F9-7AE6111EB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2276-7234-487C-87AB-E9DA69932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2ECB5-C4DD-4A38-81D7-4DC4B348A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EC23-0138-412D-B3AD-CDE415848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DF9A-4D6B-46DA-B3EE-78D7090E6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CEFB2-2C42-4D6C-8C82-F98C4F723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CAE8-A141-43EC-B5D4-7F43C1B84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7BA6-BFA7-44FE-B26A-959163FF9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DF7B-E9C0-4AEF-B211-EE84DA4DE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8DA5-0250-4852-8479-95F4F60E4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B11E-BAA4-4508-923E-6D99C13B50EE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Check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ROLL BANK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5486400"/>
            <a:ext cx="320508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 stu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4040" y="1870200"/>
            <a:ext cx="8555040" cy="3431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41040" y="585144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55760" y="1600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84680" y="16002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1469B-729F-4322-8B0D-C3581994F926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PAYROLL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5518" b="14606"/>
          <a:stretch/>
        </p:blipFill>
        <p:spPr>
          <a:xfrm>
            <a:off x="304920" y="1828800"/>
            <a:ext cx="8534160" cy="3375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49320" y="5486400"/>
            <a:ext cx="77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 stub of each employee’s payroll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44640" y="5851440"/>
            <a:ext cx="57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each employee’s payroll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84680" y="16002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55760" y="1600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FF87-B819-4892-98C4-432EB0D58CE8}" type="slidenum">
              <a:t>3</a:t>
            </a:fld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3-09T16:02:29Z</dcterms:modified>
  <cp:revision>16</cp:revision>
  <dc:subject/>
  <dc:title>Lesson 12-1</dc:title>
</cp:coreProperties>
</file>