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11B7-39AD-4537-BC5F-FB449ECAA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0815-6C44-4CDC-8D39-D3932323C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805E-BFD4-4595-ACED-991342DA7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CF08-69FA-4F25-BFE1-14348A95C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7D38-B880-4196-803E-FB9E090AB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8CB4-301A-4DB3-BD72-63CD04204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30B6-383D-454C-971A-8A631A535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AFE9-39FD-42CE-ACA1-DADA88CAA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C212-253C-4F11-BEF5-5C3C3BF66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D090-5C19-429E-A581-FE108E5B4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ADC6-579E-4A63-B67A-A54A853AE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F59B-51B5-4535-B9F5-FE52877FC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77DB-DD67-4364-BCF6-F9721B762C5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Chec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BANK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5486400"/>
            <a:ext cx="32050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040" y="1870200"/>
            <a:ext cx="8555040" cy="343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1040" y="58514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A7BB-70E3-4BFD-AA72-7E7A05BE8111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PAYROLL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5518" b="14606"/>
          <a:stretch/>
        </p:blipFill>
        <p:spPr>
          <a:xfrm>
            <a:off x="304920" y="1828800"/>
            <a:ext cx="8534160" cy="337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9320" y="5486400"/>
            <a:ext cx="77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 of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44640" y="5851440"/>
            <a:ext cx="57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7ECB-41B2-43AC-ACE4-0A5AA648D022}" type="slidenum">
              <a:t>3</a:t>
            </a:fld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29Z</dcterms:modified>
  <cp:revision>16</cp:revision>
  <dc:subject/>
  <dc:title>Lesson 12-1</dc:title>
</cp:coreProperties>
</file>