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8F0D-CCD4-4DBA-A011-0A24A0AB2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ECD9-CA09-4703-A5C3-616AA65BA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7202-200B-4195-BE11-3F4668AE1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16ED-DC12-4559-BEBE-103684680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6768-7EDA-4F4E-8DDF-0B8A16BFC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A6ED-FFE1-4D9C-BBA5-3A8BAE059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8226-218E-4A7A-9BF4-914BD0EBC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113E-6141-47CB-96B3-897127596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A7B4-9B5B-4C83-B946-0A52051E8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901F-1FBD-4E7C-91C1-0EA2FF43A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CBD4-2389-4812-9E87-B48D4E79D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8B51-01D8-4727-9979-99ED793AC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50E-ACC7-4B24-89A9-F05739DB269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01EB-D7EB-406C-B37E-79AE9BC0DBF8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35" name="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38" name="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44" name="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4" name="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843F-240C-44B7-BC63-AC6FD2997DF1}" type="slidenum">
              <a:t>3</a:t>
            </a:fld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B31-6865-4223-8832-854955A8B52C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12Z</dcterms:modified>
  <cp:revision>17</cp:revision>
  <dc:subject/>
  <dc:title>Lesson 12-1</dc:title>
</cp:coreProperties>
</file>