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25B8-481B-4823-A9AA-1A501BFBF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6930-BE14-4E6E-8EA4-554B40E9E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2962-3143-46BD-9B8A-114109246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0864-549F-4067-B846-C96955311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C8F4-4753-40AF-B01E-2B0E5EABB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B39F-519A-4FBE-B24C-62FE8496D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DC71-04A6-4643-ACF6-72A9B9053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DED2-9832-4950-B3AB-13EB5742D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1DF5-17BD-4284-8869-61F47844F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6C12-31EB-4A21-A11F-853D936AD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A972-FB27-4B30-A05B-35807A653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9811-9CA6-4295-BCD1-3B27FF58A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29DD-E998-4AA6-AA7E-8BDE84EC8BF7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Recor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ROLL REG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890" b="8374"/>
          <a:stretch/>
        </p:blipFill>
        <p:spPr>
          <a:xfrm>
            <a:off x="304920" y="1371600"/>
            <a:ext cx="853416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4100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364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1920" y="182880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39625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19360" y="15238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15240" y="15238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2096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9588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05360" y="19051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365760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420516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Health insurance premium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06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ayment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08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mployee pers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45068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Other employee payroll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110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4807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Total de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411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Federal income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51084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Net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713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ocial security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54086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Total, prove, and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014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Medicare tax with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5708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dec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Check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2051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ay period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4BF4-7022-4DF9-A257-8B5C2172840A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 EARNINGS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01680" y="1447920"/>
            <a:ext cx="6713640" cy="4267080"/>
            <a:chOff x="2101680" y="1447920"/>
            <a:chExt cx="6713640" cy="426708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rcRect l="0" t="0" r="0" b="76325"/>
            <a:stretch/>
          </p:blipFill>
          <p:spPr>
            <a:xfrm>
              <a:off x="2101680" y="1447920"/>
              <a:ext cx="6713640" cy="11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"/>
            <p:cNvGrpSpPr/>
            <p:nvPr/>
          </p:nvGrpSpPr>
          <p:grpSpPr>
            <a:xfrm>
              <a:off x="2101680" y="2995560"/>
              <a:ext cx="6713640" cy="2719440"/>
              <a:chOff x="2101680" y="2995560"/>
              <a:chExt cx="6713640" cy="2719440"/>
            </a:xfrm>
          </p:grpSpPr>
          <p:pic>
            <p:nvPicPr>
              <p:cNvPr id="124" name="" descr=""/>
              <p:cNvPicPr/>
              <p:nvPr/>
            </p:nvPicPr>
            <p:blipFill>
              <a:blip r:embed="rId2"/>
              <a:srcRect l="0" t="80509" r="0" b="0"/>
              <a:stretch/>
            </p:blipFill>
            <p:spPr>
              <a:xfrm>
                <a:off x="2101680" y="4775040"/>
                <a:ext cx="6713640" cy="93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3"/>
              <a:srcRect l="0" t="39460" r="0" b="27888"/>
              <a:stretch/>
            </p:blipFill>
            <p:spPr>
              <a:xfrm>
                <a:off x="2101680" y="2995560"/>
                <a:ext cx="6713640" cy="157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" name=""/>
          <p:cNvSpPr/>
          <p:nvPr/>
        </p:nvSpPr>
        <p:spPr>
          <a:xfrm>
            <a:off x="23400" y="5867280"/>
            <a:ext cx="25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Total and 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0291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nings, deductions, net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09556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pers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04200" y="297180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45260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day of qua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65904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73996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accumula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94820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accumula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742840" y="1717560"/>
            <a:ext cx="738360" cy="3198960"/>
            <a:chOff x="2742840" y="1717560"/>
            <a:chExt cx="738360" cy="3198960"/>
          </a:xfrm>
        </p:grpSpPr>
        <p:sp>
          <p:nvSpPr>
            <p:cNvPr id="135" name=""/>
            <p:cNvSpPr/>
            <p:nvPr/>
          </p:nvSpPr>
          <p:spPr>
            <a:xfrm flipH="1">
              <a:off x="2742840" y="1717560"/>
              <a:ext cx="738360" cy="319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4880" y="2671920"/>
              <a:ext cx="320760" cy="3204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81360" y="3255840"/>
            <a:ext cx="609120" cy="914400"/>
            <a:chOff x="1881360" y="3255840"/>
            <a:chExt cx="609120" cy="914400"/>
          </a:xfrm>
        </p:grpSpPr>
        <p:sp>
          <p:nvSpPr>
            <p:cNvPr id="138" name=""/>
            <p:cNvSpPr/>
            <p:nvPr/>
          </p:nvSpPr>
          <p:spPr>
            <a:xfrm>
              <a:off x="2185920" y="325584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1360" y="3560760"/>
              <a:ext cx="32040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8129520" y="5334120"/>
            <a:ext cx="320760" cy="3204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50440" y="4822920"/>
            <a:ext cx="32040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34440" y="3809880"/>
            <a:ext cx="320760" cy="320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328920" y="2544480"/>
            <a:ext cx="4952880" cy="2359440"/>
            <a:chOff x="3328920" y="2544480"/>
            <a:chExt cx="4952880" cy="2359440"/>
          </a:xfrm>
        </p:grpSpPr>
        <p:grpSp>
          <p:nvGrpSpPr>
            <p:cNvPr id="144" name=""/>
            <p:cNvGrpSpPr/>
            <p:nvPr/>
          </p:nvGrpSpPr>
          <p:grpSpPr>
            <a:xfrm>
              <a:off x="3328920" y="2544480"/>
              <a:ext cx="4952880" cy="2359440"/>
              <a:chOff x="3328920" y="2544480"/>
              <a:chExt cx="4952880" cy="235944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3328920" y="4629240"/>
                <a:ext cx="4572000" cy="274680"/>
                <a:chOff x="3328920" y="4629240"/>
                <a:chExt cx="4572000" cy="2746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3688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4484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85280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6076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6908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37704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88500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92960" y="4629240"/>
                  <a:ext cx="0" cy="2746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3328920" y="4629240"/>
                  <a:ext cx="4572000" cy="274680"/>
                  <a:chOff x="3328920" y="4629240"/>
                  <a:chExt cx="4572000" cy="2746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3328920" y="462924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3328920" y="4629240"/>
                    <a:ext cx="4572000" cy="274680"/>
                    <a:chOff x="3328920" y="4629240"/>
                    <a:chExt cx="4572000" cy="27468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7900920" y="4629240"/>
                      <a:ext cx="0" cy="274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328920" y="4629240"/>
                      <a:ext cx="457200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9" name=""/>
              <p:cNvGrpSpPr/>
              <p:nvPr/>
            </p:nvGrpSpPr>
            <p:grpSpPr>
              <a:xfrm>
                <a:off x="3986280" y="2544480"/>
                <a:ext cx="4295520" cy="2094120"/>
                <a:chOff x="3986280" y="2544480"/>
                <a:chExt cx="4295520" cy="209412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3986280" y="2544480"/>
                  <a:ext cx="4295520" cy="275040"/>
                  <a:chOff x="3986280" y="2544480"/>
                  <a:chExt cx="4295520" cy="27504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V="1">
                    <a:off x="447192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V="1">
                    <a:off x="492912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V="1">
                    <a:off x="54626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V="1">
                    <a:off x="59198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V="1">
                    <a:off x="63770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691020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V="1">
                    <a:off x="736740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V="1">
                    <a:off x="7773840" y="254448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3986280" y="2544480"/>
                    <a:ext cx="4295520" cy="275040"/>
                    <a:chOff x="3986280" y="2544480"/>
                    <a:chExt cx="4295520" cy="27504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 flipV="1">
                      <a:off x="8281800" y="2544480"/>
                      <a:ext cx="0" cy="27468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1" name=""/>
                    <p:cNvGrpSpPr/>
                    <p:nvPr/>
                  </p:nvGrpSpPr>
                  <p:grpSpPr>
                    <a:xfrm>
                      <a:off x="3986280" y="2544480"/>
                      <a:ext cx="4295520" cy="275040"/>
                      <a:chOff x="3986280" y="2544480"/>
                      <a:chExt cx="4295520" cy="275040"/>
                    </a:xfrm>
                  </p:grpSpPr>
                  <p:sp>
                    <p:nvSpPr>
                      <p:cNvPr id="172" name=""/>
                      <p:cNvSpPr/>
                      <p:nvPr/>
                    </p:nvSpPr>
                    <p:spPr>
                      <a:xfrm flipV="1">
                        <a:off x="3986280" y="2544480"/>
                        <a:ext cx="0" cy="27468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3986280" y="2819520"/>
                        <a:ext cx="42955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74" name=""/>
                <p:cNvSpPr/>
                <p:nvPr/>
              </p:nvSpPr>
              <p:spPr>
                <a:xfrm flipV="1">
                  <a:off x="5614920" y="2809800"/>
                  <a:ext cx="0" cy="18288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5441760" y="3336840"/>
              <a:ext cx="320760" cy="320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4200-D513-4593-882E-FC9384CBC476}" type="slidenum">
              <a:t>3</a:t>
            </a:fld>
          </a:p>
        </p:txBody>
      </p: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roll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earnings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831A-9DE8-437E-96A4-A6323800620F}" type="slidenum">
              <a:t>4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6:02:12Z</dcterms:modified>
  <cp:revision>17</cp:revision>
  <dc:subject/>
  <dc:title>Lesson 12-1</dc:title>
</cp:coreProperties>
</file>