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D814-D551-4A7A-A72F-E589B078F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DB8C-5D55-4D40-92EA-8400351ED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ED5A-B2A2-4939-86B9-FB66833E4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EC2B-0C59-4F99-A6F9-F39A4D6B3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4384-8D3A-46FF-9D59-0064C1F7D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3DB3-8A77-4E2E-BE15-07CCEBFD4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1475-60A2-4F5F-9AB7-4ACE741CB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82E2-CDB6-466A-B3D7-F638A61F1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6DAE-C2B9-45A9-8F56-EE07B4AC8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164C-ECC0-42FE-A2A3-906DA8D58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2ACD-BFD4-4D41-8FC7-4FA17FA69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BBCE-4513-46F3-831C-39C016A41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9280-B8F8-48DD-9754-05E5805C115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7D73-7B1A-4DA3-A8BB-5FE7DC4E35AE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35" name="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38" name="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44" name="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4" name="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7A57-12D6-4E50-A11D-12EA438DE3F8}" type="slidenum">
              <a:t>3</a:t>
            </a:fld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D10A-B6E5-4089-A990-9E7206EC3DAD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12Z</dcterms:modified>
  <cp:revision>17</cp:revision>
  <dc:subject/>
  <dc:title>Lesson 12-1</dc:title>
</cp:coreProperties>
</file>