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B78E6-A38C-447A-8C77-39A9A319FF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5DBAD-78A7-4983-B501-7FB5B7F837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22688-260A-4786-AF24-374F628B03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E7FD4-E755-448F-A2C0-7E1B962BC0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B2796-15F6-4DCA-A612-E5899ED961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A0602-BBFC-4F67-A1FA-BAF6BAA450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C6DC8-97D7-4007-85A0-FFB2BACC03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F62F0-762B-4704-A618-63D9699A1C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0F72E-383A-43BA-9AE9-637737E9A5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832E8-49E3-40C3-819C-9B6DCBA15E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EB5AA-2A00-40B8-B80A-34B94FC6A3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7B04E-9490-49D5-8016-9023EE97DF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C949-C49F-498C-9FFF-E1A32CCD3CB8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0" r="0" b="6253"/>
          <a:stretch/>
        </p:blipFill>
        <p:spPr>
          <a:xfrm>
            <a:off x="0" y="4680"/>
            <a:ext cx="1030320" cy="12859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6253"/>
          <a:stretch/>
        </p:blipFill>
        <p:spPr>
          <a:xfrm>
            <a:off x="0" y="4680"/>
            <a:ext cx="1030320" cy="1285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rs.gov/app/understandingTaxes/jsp/hows/tt/module01/tax_mod1_1.jsp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12-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Determining Payroll Tax Withholdin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EE’S WITHHOLDING ALLOWANCE CERTIFI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38360" y="1447920"/>
            <a:ext cx="5867280" cy="3066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371600" y="22096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53200" y="18082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05520" y="18082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53200" y="2647800"/>
            <a:ext cx="411120" cy="411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65720" y="3562200"/>
            <a:ext cx="411120" cy="411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565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employee’s name and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4916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employee’s social security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52671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the appropriate marital status blo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56181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total number of withholding allowances claim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59691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mployee signs and dates the fo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49372-1B77-44B9-AEEE-3729291F54F1}" type="slidenum">
              <a:t>2</a:t>
            </a:fld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EE’S INCOME TAX WITHHOLDING – MARRIED PER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04920" y="1447920"/>
            <a:ext cx="8533800" cy="3200040"/>
            <a:chOff x="304920" y="1447920"/>
            <a:chExt cx="8533800" cy="32000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rcRect l="891" t="0" r="0" b="81211"/>
            <a:stretch/>
          </p:blipFill>
          <p:spPr>
            <a:xfrm>
              <a:off x="304920" y="1447920"/>
              <a:ext cx="8533800" cy="14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2"/>
            <a:srcRect l="891" t="47382" r="0" b="40751"/>
            <a:stretch/>
          </p:blipFill>
          <p:spPr>
            <a:xfrm>
              <a:off x="304920" y="3047040"/>
              <a:ext cx="8533800" cy="93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3"/>
            <a:srcRect l="891" t="93078" r="0" b="0"/>
            <a:stretch/>
          </p:blipFill>
          <p:spPr>
            <a:xfrm>
              <a:off x="304920" y="4105440"/>
              <a:ext cx="8533800" cy="54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"/>
          <p:cNvSpPr/>
          <p:nvPr/>
        </p:nvSpPr>
        <p:spPr>
          <a:xfrm>
            <a:off x="160200" y="1494000"/>
            <a:ext cx="41148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52440" y="3632040"/>
            <a:ext cx="447840" cy="1315800"/>
            <a:chOff x="352440" y="3632040"/>
            <a:chExt cx="447840" cy="1315800"/>
          </a:xfrm>
        </p:grpSpPr>
        <p:sp>
          <p:nvSpPr>
            <p:cNvPr id="111" name=""/>
            <p:cNvSpPr/>
            <p:nvPr/>
          </p:nvSpPr>
          <p:spPr>
            <a:xfrm>
              <a:off x="571680" y="3632040"/>
              <a:ext cx="228600" cy="1218960"/>
            </a:xfrm>
            <a:custGeom>
              <a:avLst/>
              <a:gdLst/>
              <a:ahLst/>
              <a:rect l="l" t="t" r="r" b="b"/>
              <a:pathLst>
                <a:path w="144" h="768">
                  <a:moveTo>
                    <a:pt x="144" y="0"/>
                  </a:moveTo>
                  <a:lnTo>
                    <a:pt x="0" y="0"/>
                  </a:lnTo>
                  <a:lnTo>
                    <a:pt x="0" y="7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2440" y="453672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181400" y="3632040"/>
            <a:ext cx="447840" cy="1315800"/>
            <a:chOff x="4181400" y="3632040"/>
            <a:chExt cx="447840" cy="1315800"/>
          </a:xfrm>
        </p:grpSpPr>
        <p:sp>
          <p:nvSpPr>
            <p:cNvPr id="114" name=""/>
            <p:cNvSpPr/>
            <p:nvPr/>
          </p:nvSpPr>
          <p:spPr>
            <a:xfrm>
              <a:off x="4400640" y="3632040"/>
              <a:ext cx="228600" cy="1218960"/>
            </a:xfrm>
            <a:custGeom>
              <a:avLst/>
              <a:gdLst/>
              <a:ahLst/>
              <a:rect l="l" t="t" r="r" b="b"/>
              <a:pathLst>
                <a:path w="144" h="768">
                  <a:moveTo>
                    <a:pt x="144" y="0"/>
                  </a:moveTo>
                  <a:lnTo>
                    <a:pt x="0" y="0"/>
                  </a:lnTo>
                  <a:lnTo>
                    <a:pt x="0" y="7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81400" y="453672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04920" y="51213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appropriate t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4864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the employee’s total earn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58514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section of wages and number of allowances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01767-9AD4-4DC2-B5FF-68EA3AD2610B}" type="slidenum">
              <a:t>3</a:t>
            </a:fld>
          </a:p>
        </p:txBody>
      </p:sp>
    </p:spTree>
  </p:cSld>
  <p:transition>
    <p:wipe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roll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holding allow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security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re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B3F20-B0BF-4A8B-A038-2DEDF1BB4D77}" type="slidenum">
              <a:t>4</a:t>
            </a:fld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4b"/>
                </a:solidFill>
                <a:uFillTx/>
                <a:latin typeface="Arial"/>
                <a:hlinkClick r:id="rId1"/>
              </a:rPr>
              <a:t>http://www.irs.gov/app/understandingTaxes/jsp/s_student_tutorials.j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E199B-AAF2-42DD-AEAA-0A09F4C7B509}" type="slidenum">
              <a:t>5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6:50:40Z</dcterms:created>
  <dc:creator>M. C. McLaughlin</dc:creator>
  <dc:description/>
  <dc:language>en-US</dc:language>
  <cp:lastModifiedBy>christy.laubach</cp:lastModifiedBy>
  <dcterms:modified xsi:type="dcterms:W3CDTF">2007-03-09T15:55:39Z</dcterms:modified>
  <cp:revision>19</cp:revision>
  <dc:subject/>
  <dc:title>Lesson 12-1</dc:title>
</cp:coreProperties>
</file>