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CE63-030B-4BD3-A6FC-9A2D1F7BF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77B1-502D-4CFA-AB07-865482624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2481-2EB1-4D94-9EAD-58B707C25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301C-A3C9-4F15-8F66-BF65AB7BA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555B-59A3-4532-BE66-43ABE9910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0D05-BAAC-4967-A894-EEC226B3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4847-99AC-4A5B-9B7B-03970662B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0DB4-1C02-4AFC-9227-6FBFE1F24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E863-B5FF-46B9-B86F-BDA4B90B3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FC3D-E6C1-4A19-A5D3-D81880554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93E0-F77A-4E7B-B662-E9E1B520B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30B6-B08E-4657-8158-794981DAC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94EC-B037-4828-8C2C-B2FE3198E25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s.gov/app/understandingTaxes/jsp/hows/tt/module01/tax_mod1_1.j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F922-EE4B-4F16-BD0D-E7CB819BE2B8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11" name="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14" name="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C837-EBAC-460D-A519-17812869AB8B}" type="slidenum">
              <a:t>3</a:t>
            </a:fld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883E-2CD8-4525-8D54-48008D2D515F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b"/>
                </a:solidFill>
                <a:uFillTx/>
                <a:latin typeface="Arial"/>
                <a:hlinkClick r:id="rId1"/>
              </a:rPr>
              <a:t>http://www.irs.gov/app/understandingTaxes/jsp/s_student_tutorials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9403-F81D-4996-A837-4855451E0C23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5:55:39Z</dcterms:modified>
  <cp:revision>19</cp:revision>
  <dc:subject/>
  <dc:title>Lesson 12-1</dc:title>
</cp:coreProperties>
</file>