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5D19-49A3-4B21-8385-129AFB711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8D87-9D80-4FB4-85E3-FBFE262DF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4AC4-C591-468F-8074-3B27F6318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67DC-163D-4810-9CE7-B5C52D34B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7489-ACAA-4B9A-BBA3-AA0A0639E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F91F-786A-4589-AF14-D8A5DDED1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3755-7656-4D2E-8D2E-2D6E475E3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6088-3472-41A5-97AA-314B8F9EE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CB1D-7D61-477B-8687-21C2E735B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1E02-E745-42CE-8312-0963434EF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A361-BAE2-43D6-B0AB-0343C4DB0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325B-7994-4A95-B523-10ABEC26C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2B96-B948-43B1-8F54-0EEC895FB07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rs.gov/app/understandingTaxes/jsp/hows/tt/module01/tax_mod1_1.j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ermining Payroll Tax Withhold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WITHHOLDING ALLOWANC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5867280" cy="306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5320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3200" y="26478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65720" y="35622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565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name an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916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social securit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26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appropriate marital statu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618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number of withholding allowances clai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96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signs and dates th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E979-4027-4284-9DA0-7C314317C231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INCOME TAX WITHHOLDING – MARRIED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1447920"/>
            <a:ext cx="8533800" cy="3200040"/>
            <a:chOff x="304920" y="1447920"/>
            <a:chExt cx="8533800" cy="32000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891" t="0" r="0" b="81211"/>
            <a:stretch/>
          </p:blipFill>
          <p:spPr>
            <a:xfrm>
              <a:off x="304920" y="1447920"/>
              <a:ext cx="85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891" t="47382" r="0" b="40751"/>
            <a:stretch/>
          </p:blipFill>
          <p:spPr>
            <a:xfrm>
              <a:off x="304920" y="3047040"/>
              <a:ext cx="853380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rcRect l="891" t="93078" r="0" b="0"/>
            <a:stretch/>
          </p:blipFill>
          <p:spPr>
            <a:xfrm>
              <a:off x="304920" y="4105440"/>
              <a:ext cx="8533800" cy="54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60200" y="14940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52440" y="3632040"/>
            <a:ext cx="447840" cy="1315800"/>
            <a:chOff x="352440" y="3632040"/>
            <a:chExt cx="447840" cy="1315800"/>
          </a:xfrm>
        </p:grpSpPr>
        <p:sp>
          <p:nvSpPr>
            <p:cNvPr id="111" name=""/>
            <p:cNvSpPr/>
            <p:nvPr/>
          </p:nvSpPr>
          <p:spPr>
            <a:xfrm>
              <a:off x="57168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181400" y="3632040"/>
            <a:ext cx="447840" cy="1315800"/>
            <a:chOff x="4181400" y="3632040"/>
            <a:chExt cx="447840" cy="1315800"/>
          </a:xfrm>
        </p:grpSpPr>
        <p:sp>
          <p:nvSpPr>
            <p:cNvPr id="114" name=""/>
            <p:cNvSpPr/>
            <p:nvPr/>
          </p:nvSpPr>
          <p:spPr>
            <a:xfrm>
              <a:off x="440064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140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4920" y="5121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ppropriate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486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employee’s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851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wages and number of allowance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D85E-FF1E-4843-BE3B-762CF5EB51A5}" type="slidenum">
              <a:t>3</a:t>
            </a:fld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0439-A455-4E16-80E6-3498EA7CD021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b"/>
                </a:solidFill>
                <a:uFillTx/>
                <a:latin typeface="Arial"/>
                <a:hlinkClick r:id="rId1"/>
              </a:rPr>
              <a:t>http://www.irs.gov/app/understandingTaxes/jsp/s_student_tutorials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1C76-BBFB-417A-8410-27AAA35EA6CF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5:55:39Z</dcterms:modified>
  <cp:revision>19</cp:revision>
  <dc:subject/>
  <dc:title>Lesson 12-1</dc:title>
</cp:coreProperties>
</file>