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C0D6C-6E52-4F74-890D-EBAFB38D4A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1275F-BE9C-4661-952A-301253D556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37A7C-85F3-4EB1-AED4-BA042A1A95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066CA-8735-4967-A02D-ACBD257637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F43CD-6405-4133-8628-035D791FB0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BC2A9-9A5E-4225-89BC-7079E23B7D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DF254-147A-4C6B-AA1B-A0C4837AA4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C32D6-B294-4943-8ABF-A2A0D788A3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149E8-CF16-45D0-97B5-50902C9423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E0A06-5DD5-431C-9633-1ADDB30677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5921B-6693-44AC-8720-1CA8258855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0FBCF-B5EA-4173-A8CD-F651254AC8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DFE9A-19E5-4D28-AD4B-E03B61065FAC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rcRect l="0" t="0" r="0" b="6253"/>
          <a:stretch/>
        </p:blipFill>
        <p:spPr>
          <a:xfrm>
            <a:off x="0" y="4680"/>
            <a:ext cx="1030320" cy="12859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0" r="0" b="6253"/>
          <a:stretch/>
        </p:blipFill>
        <p:spPr>
          <a:xfrm>
            <a:off x="0" y="4680"/>
            <a:ext cx="1030320" cy="1285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40224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3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SSON 12-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010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Preparing Payroll Time Card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YZING A PAYROLL TIME C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34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286000" y="2124000"/>
            <a:ext cx="4572000" cy="2676600"/>
            <a:chOff x="2286000" y="2124000"/>
            <a:chExt cx="4572000" cy="2676600"/>
          </a:xfrm>
        </p:grpSpPr>
        <p:pic>
          <p:nvPicPr>
            <p:cNvPr id="93" name="" descr=""/>
            <p:cNvPicPr/>
            <p:nvPr/>
          </p:nvPicPr>
          <p:blipFill>
            <a:blip r:embed="rId1"/>
            <a:srcRect l="0" t="0" r="0" b="56258"/>
            <a:stretch/>
          </p:blipFill>
          <p:spPr>
            <a:xfrm>
              <a:off x="2286000" y="2124000"/>
              <a:ext cx="4572000" cy="267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rcRect l="6664" t="1253" r="83341" b="93785"/>
            <a:stretch/>
          </p:blipFill>
          <p:spPr>
            <a:xfrm>
              <a:off x="5791320" y="4430880"/>
              <a:ext cx="457200" cy="30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-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002A4-AD5A-41B3-86F6-0ABEE750A31A}" type="slidenum">
              <a:t>2</a:t>
            </a:fld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486400" y="46674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he Hours colum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ING EMPLOYEE HOURS WORK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63720" y="1447920"/>
            <a:ext cx="3643200" cy="4876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34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838680" y="1981080"/>
            <a:ext cx="1392120" cy="990720"/>
            <a:chOff x="3838680" y="1981080"/>
            <a:chExt cx="1392120" cy="990720"/>
          </a:xfrm>
        </p:grpSpPr>
        <p:sp>
          <p:nvSpPr>
            <p:cNvPr id="100" name=""/>
            <p:cNvSpPr/>
            <p:nvPr/>
          </p:nvSpPr>
          <p:spPr>
            <a:xfrm>
              <a:off x="3838680" y="2209680"/>
              <a:ext cx="1295280" cy="762120"/>
            </a:xfrm>
            <a:custGeom>
              <a:avLst/>
              <a:gdLst/>
              <a:ahLst/>
              <a:rect l="l" t="t" r="r" b="b"/>
              <a:pathLst>
                <a:path w="816" h="480">
                  <a:moveTo>
                    <a:pt x="0" y="480"/>
                  </a:moveTo>
                  <a:lnTo>
                    <a:pt x="0" y="0"/>
                  </a:lnTo>
                  <a:lnTo>
                    <a:pt x="81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819680" y="198108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621320" y="4038480"/>
            <a:ext cx="712800" cy="762120"/>
            <a:chOff x="4621320" y="4038480"/>
            <a:chExt cx="712800" cy="762120"/>
          </a:xfrm>
        </p:grpSpPr>
        <p:sp>
          <p:nvSpPr>
            <p:cNvPr id="103" name=""/>
            <p:cNvSpPr/>
            <p:nvPr/>
          </p:nvSpPr>
          <p:spPr>
            <a:xfrm>
              <a:off x="4621320" y="4038480"/>
              <a:ext cx="533160" cy="762120"/>
            </a:xfrm>
            <a:custGeom>
              <a:avLst/>
              <a:gdLst/>
              <a:ahLst/>
              <a:rect l="l" t="t" r="r" b="b"/>
              <a:pathLst>
                <a:path w="336" h="480">
                  <a:moveTo>
                    <a:pt x="0" y="0"/>
                  </a:moveTo>
                  <a:lnTo>
                    <a:pt x="336" y="0"/>
                  </a:lnTo>
                  <a:lnTo>
                    <a:pt x="336" y="480"/>
                  </a:lnTo>
                  <a:lnTo>
                    <a:pt x="0" y="4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23000" y="419580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2716200" y="5416560"/>
            <a:ext cx="2617920" cy="411120"/>
            <a:chOff x="2716200" y="5416560"/>
            <a:chExt cx="2617920" cy="411120"/>
          </a:xfrm>
        </p:grpSpPr>
        <p:sp>
          <p:nvSpPr>
            <p:cNvPr id="106" name=""/>
            <p:cNvSpPr/>
            <p:nvPr/>
          </p:nvSpPr>
          <p:spPr>
            <a:xfrm>
              <a:off x="2716200" y="5484960"/>
              <a:ext cx="2438280" cy="274680"/>
            </a:xfrm>
            <a:custGeom>
              <a:avLst/>
              <a:gdLst/>
              <a:ahLst/>
              <a:rect l="l" t="t" r="r" b="b"/>
              <a:pathLst>
                <a:path w="336" h="480">
                  <a:moveTo>
                    <a:pt x="0" y="0"/>
                  </a:moveTo>
                  <a:lnTo>
                    <a:pt x="336" y="0"/>
                  </a:lnTo>
                  <a:lnTo>
                    <a:pt x="336" y="480"/>
                  </a:lnTo>
                  <a:lnTo>
                    <a:pt x="0" y="4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923000" y="541656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304920" y="5805360"/>
            <a:ext cx="1828440" cy="411120"/>
            <a:chOff x="304920" y="5805360"/>
            <a:chExt cx="1828440" cy="411120"/>
          </a:xfrm>
        </p:grpSpPr>
        <p:sp>
          <p:nvSpPr>
            <p:cNvPr id="109" name=""/>
            <p:cNvSpPr/>
            <p:nvPr/>
          </p:nvSpPr>
          <p:spPr>
            <a:xfrm flipH="1">
              <a:off x="456840" y="6010200"/>
              <a:ext cx="16765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4920" y="580536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86400" y="3692520"/>
            <a:ext cx="335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Hours Reg and Hours OT columns and enter the tota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86400" y="2717640"/>
            <a:ext cx="335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the number of overtime hours and enter the amou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86400" y="1447920"/>
            <a:ext cx="3352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the number   of regular hours for each day and enter the amou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-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4C971-081F-42E4-8BE7-9F0B1D7EEFBB}" type="slidenum">
              <a:t>3</a:t>
            </a:fld>
          </a:p>
        </p:txBody>
      </p:sp>
    </p:spTree>
  </p:cSld>
  <p:transition>
    <p:wipe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ING EMPLOYEE TOTAL EARN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58680" y="1442880"/>
            <a:ext cx="3648240" cy="48816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3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04920" y="5648400"/>
            <a:ext cx="2584080" cy="411120"/>
            <a:chOff x="304920" y="5648400"/>
            <a:chExt cx="2584080" cy="411120"/>
          </a:xfrm>
        </p:grpSpPr>
        <p:sp>
          <p:nvSpPr>
            <p:cNvPr id="118" name=""/>
            <p:cNvSpPr/>
            <p:nvPr/>
          </p:nvSpPr>
          <p:spPr>
            <a:xfrm flipH="1">
              <a:off x="374400" y="5724720"/>
              <a:ext cx="25146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4920" y="564840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04920" y="5018040"/>
            <a:ext cx="2584080" cy="411120"/>
            <a:chOff x="304920" y="5018040"/>
            <a:chExt cx="2584080" cy="411120"/>
          </a:xfrm>
        </p:grpSpPr>
        <p:sp>
          <p:nvSpPr>
            <p:cNvPr id="121" name=""/>
            <p:cNvSpPr/>
            <p:nvPr/>
          </p:nvSpPr>
          <p:spPr>
            <a:xfrm flipH="1">
              <a:off x="374400" y="5384880"/>
              <a:ext cx="25146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04920" y="501804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648320" y="5248440"/>
            <a:ext cx="1249200" cy="411120"/>
            <a:chOff x="4648320" y="5248440"/>
            <a:chExt cx="1249200" cy="411120"/>
          </a:xfrm>
        </p:grpSpPr>
        <p:sp>
          <p:nvSpPr>
            <p:cNvPr id="124" name=""/>
            <p:cNvSpPr/>
            <p:nvPr/>
          </p:nvSpPr>
          <p:spPr>
            <a:xfrm>
              <a:off x="4648320" y="54550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486400" y="524844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648320" y="5581800"/>
            <a:ext cx="2163600" cy="411120"/>
            <a:chOff x="4648320" y="5581800"/>
            <a:chExt cx="2163600" cy="411120"/>
          </a:xfrm>
        </p:grpSpPr>
        <p:sp>
          <p:nvSpPr>
            <p:cNvPr id="127" name=""/>
            <p:cNvSpPr/>
            <p:nvPr/>
          </p:nvSpPr>
          <p:spPr>
            <a:xfrm>
              <a:off x="4648320" y="5788080"/>
              <a:ext cx="1828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400800" y="558180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648320" y="5913360"/>
            <a:ext cx="3078000" cy="411120"/>
            <a:chOff x="4648320" y="5913360"/>
            <a:chExt cx="3078000" cy="411120"/>
          </a:xfrm>
        </p:grpSpPr>
        <p:sp>
          <p:nvSpPr>
            <p:cNvPr id="130" name=""/>
            <p:cNvSpPr/>
            <p:nvPr/>
          </p:nvSpPr>
          <p:spPr>
            <a:xfrm>
              <a:off x="4648320" y="6118200"/>
              <a:ext cx="2741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15200" y="591336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5029200" y="1447920"/>
            <a:ext cx="380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the rate for regular time in the Rate colum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114640"/>
            <a:ext cx="380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the regular earnings. Enter the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29200" y="278136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the rate for over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3143160"/>
            <a:ext cx="380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the overtime earnings. Enter the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029200" y="3809880"/>
            <a:ext cx="380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he Amount column to calculate total earnings. Enter the amount of total earning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-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4CBE2-CEE7-41F9-8626-FEDE5080CB5D}" type="slidenum">
              <a:t>4</a:t>
            </a:fld>
          </a:p>
        </p:txBody>
      </p:sp>
    </p:spTree>
  </p:cSld>
  <p:transition>
    <p:wipe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S 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ro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earn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3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-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C3569-E4C5-4DBD-8F56-93ADE8098D1E}" type="slidenum">
              <a:t>5</a:t>
            </a:fld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8T16:50:40Z</dcterms:created>
  <dc:creator>M. C. McLaughlin</dc:creator>
  <dc:description/>
  <dc:language>en-US</dc:language>
  <cp:lastModifiedBy>christy.laubach</cp:lastModifiedBy>
  <dcterms:modified xsi:type="dcterms:W3CDTF">2007-02-28T16:10:44Z</dcterms:modified>
  <cp:revision>17</cp:revision>
  <dc:subject/>
  <dc:title>Lesson 12-1</dc:title>
</cp:coreProperties>
</file>