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0D72-9A44-477D-B86E-737CAFE36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61A7-88D2-4391-BEE9-B259B4A21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7BAF-B5E7-4D88-B262-32EF3757A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017E-26DB-4079-872E-D3EE8D9BC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3218-31BB-45AE-A13A-E63D7802F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B772-1A5E-4F52-8D73-07BEC5308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8575-2CC2-4200-940F-F0C8564A0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3720-B76E-4C3A-B3C5-B50C8B0FB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7EB6-4BB7-48CE-868C-7D66AE1F5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0B14-17C3-43FC-A6DA-6105EDA70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3857-966F-4885-BC35-0C010395A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56DC-61C2-4216-B944-887630A8D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DEE6-7A32-427C-B789-32B9D181C5D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Time Card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ING A PAYROLL TIME 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0" y="2124000"/>
            <a:ext cx="4572000" cy="2676600"/>
            <a:chOff x="2286000" y="2124000"/>
            <a:chExt cx="4572000" cy="26766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0" r="0" b="56258"/>
            <a:stretch/>
          </p:blipFill>
          <p:spPr>
            <a:xfrm>
              <a:off x="2286000" y="2124000"/>
              <a:ext cx="4572000" cy="26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rcRect l="6664" t="1253" r="83341" b="93785"/>
            <a:stretch/>
          </p:blipFill>
          <p:spPr>
            <a:xfrm>
              <a:off x="5791320" y="4430880"/>
              <a:ext cx="45720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000E-23F5-4B7B-9FFD-ECC0002041F8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486400" y="4667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Hour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EMPLOYEE HOURS 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63720" y="1447920"/>
            <a:ext cx="3643200" cy="487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38680" y="1981080"/>
            <a:ext cx="1392120" cy="990720"/>
            <a:chOff x="3838680" y="1981080"/>
            <a:chExt cx="1392120" cy="990720"/>
          </a:xfrm>
        </p:grpSpPr>
        <p:sp>
          <p:nvSpPr>
            <p:cNvPr id="100" name=""/>
            <p:cNvSpPr/>
            <p:nvPr/>
          </p:nvSpPr>
          <p:spPr>
            <a:xfrm>
              <a:off x="3838680" y="2209680"/>
              <a:ext cx="1295280" cy="762120"/>
            </a:xfrm>
            <a:custGeom>
              <a:avLst/>
              <a:gdLst/>
              <a:ahLst/>
              <a:rect l="l" t="t" r="r" b="b"/>
              <a:pathLst>
                <a:path w="816" h="480">
                  <a:moveTo>
                    <a:pt x="0" y="480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19680" y="1981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21320" y="4038480"/>
            <a:ext cx="712800" cy="762120"/>
            <a:chOff x="4621320" y="4038480"/>
            <a:chExt cx="712800" cy="762120"/>
          </a:xfrm>
        </p:grpSpPr>
        <p:sp>
          <p:nvSpPr>
            <p:cNvPr id="103" name=""/>
            <p:cNvSpPr/>
            <p:nvPr/>
          </p:nvSpPr>
          <p:spPr>
            <a:xfrm>
              <a:off x="4621320" y="4038480"/>
              <a:ext cx="533160" cy="76212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0"/>
                  </a:moveTo>
                  <a:lnTo>
                    <a:pt x="336" y="0"/>
                  </a:lnTo>
                  <a:lnTo>
                    <a:pt x="336" y="480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23000" y="4195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716200" y="5416560"/>
            <a:ext cx="2617920" cy="411120"/>
            <a:chOff x="2716200" y="5416560"/>
            <a:chExt cx="2617920" cy="411120"/>
          </a:xfrm>
        </p:grpSpPr>
        <p:sp>
          <p:nvSpPr>
            <p:cNvPr id="106" name=""/>
            <p:cNvSpPr/>
            <p:nvPr/>
          </p:nvSpPr>
          <p:spPr>
            <a:xfrm>
              <a:off x="2716200" y="5484960"/>
              <a:ext cx="2438280" cy="27468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0"/>
                  </a:moveTo>
                  <a:lnTo>
                    <a:pt x="336" y="0"/>
                  </a:lnTo>
                  <a:lnTo>
                    <a:pt x="336" y="480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23000" y="54165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04920" y="5805360"/>
            <a:ext cx="1828440" cy="411120"/>
            <a:chOff x="304920" y="5805360"/>
            <a:chExt cx="1828440" cy="411120"/>
          </a:xfrm>
        </p:grpSpPr>
        <p:sp>
          <p:nvSpPr>
            <p:cNvPr id="109" name=""/>
            <p:cNvSpPr/>
            <p:nvPr/>
          </p:nvSpPr>
          <p:spPr>
            <a:xfrm flipH="1">
              <a:off x="456840" y="6010200"/>
              <a:ext cx="1676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5805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86400" y="36925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Hours Reg and Hours OT columns and enter the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271764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of overtime hours and enter the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14479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  of regular hours for each day and enter the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C43A-D3F7-4E1A-83D0-4F1C43D97AA3}" type="slidenum">
              <a:t>3</a:t>
            </a:fld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EMPLOYEE TOTAL EAR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58680" y="1442880"/>
            <a:ext cx="3648240" cy="488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4920" y="5648400"/>
            <a:ext cx="2584080" cy="411120"/>
            <a:chOff x="304920" y="5648400"/>
            <a:chExt cx="2584080" cy="411120"/>
          </a:xfrm>
        </p:grpSpPr>
        <p:sp>
          <p:nvSpPr>
            <p:cNvPr id="118" name=""/>
            <p:cNvSpPr/>
            <p:nvPr/>
          </p:nvSpPr>
          <p:spPr>
            <a:xfrm flipH="1">
              <a:off x="374400" y="5724720"/>
              <a:ext cx="2514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920" y="56484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04920" y="5018040"/>
            <a:ext cx="2584080" cy="411120"/>
            <a:chOff x="304920" y="5018040"/>
            <a:chExt cx="2584080" cy="411120"/>
          </a:xfrm>
        </p:grpSpPr>
        <p:sp>
          <p:nvSpPr>
            <p:cNvPr id="121" name=""/>
            <p:cNvSpPr/>
            <p:nvPr/>
          </p:nvSpPr>
          <p:spPr>
            <a:xfrm flipH="1">
              <a:off x="374400" y="5384880"/>
              <a:ext cx="2514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50180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48440"/>
            <a:ext cx="1249200" cy="411120"/>
            <a:chOff x="4648320" y="5248440"/>
            <a:chExt cx="1249200" cy="411120"/>
          </a:xfrm>
        </p:grpSpPr>
        <p:sp>
          <p:nvSpPr>
            <p:cNvPr id="124" name=""/>
            <p:cNvSpPr/>
            <p:nvPr/>
          </p:nvSpPr>
          <p:spPr>
            <a:xfrm>
              <a:off x="4648320" y="5455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52484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48320" y="5581800"/>
            <a:ext cx="2163600" cy="411120"/>
            <a:chOff x="4648320" y="5581800"/>
            <a:chExt cx="2163600" cy="411120"/>
          </a:xfrm>
        </p:grpSpPr>
        <p:sp>
          <p:nvSpPr>
            <p:cNvPr id="127" name=""/>
            <p:cNvSpPr/>
            <p:nvPr/>
          </p:nvSpPr>
          <p:spPr>
            <a:xfrm>
              <a:off x="4648320" y="57880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00800" y="5581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648320" y="5913360"/>
            <a:ext cx="3078000" cy="411120"/>
            <a:chOff x="4648320" y="5913360"/>
            <a:chExt cx="3078000" cy="411120"/>
          </a:xfrm>
        </p:grpSpPr>
        <p:sp>
          <p:nvSpPr>
            <p:cNvPr id="130" name=""/>
            <p:cNvSpPr/>
            <p:nvPr/>
          </p:nvSpPr>
          <p:spPr>
            <a:xfrm>
              <a:off x="4648320" y="6118200"/>
              <a:ext cx="274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15200" y="5913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029200" y="14479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rate for regular time in the Rat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11464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regular earnings. Enter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278136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rate for over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314316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overtime earnings. Enter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80988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Amount column to calculate total earnings. Enter the amount of total earn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AFD1-68E9-478D-96A1-665ECDEDA558}" type="slidenum">
              <a:t>4</a:t>
            </a:fld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ABF9-495B-4F9F-B23C-6431C18E993A}" type="slidenum">
              <a:t>5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2-28T16:10:44Z</dcterms:modified>
  <cp:revision>17</cp:revision>
  <dc:subject/>
  <dc:title>Lesson 12-1</dc:title>
</cp:coreProperties>
</file>