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0335-AE54-43F8-BC41-C0F5A4516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46DF-9994-4FF9-9568-48C6D5811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1A133-6E64-43EC-AA50-010A73BAA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2C29-5AF2-46CD-ACDF-18ADCCBB2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519F-C50F-4F70-84D1-1EE337123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ADA5-EE9D-46FB-B336-D10937381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3EC0-82A9-4EF9-8FB2-29E3744BB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5A66-0894-4B12-B0E5-9032709F4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1026-36B6-49FD-97D8-EDE647DFB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20F6-A494-41D0-BE4F-69C79E00E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34E0-E6BF-4894-80E6-9F5625A0A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A3C0-5A38-4A3B-93D0-25FB300A7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D195-219B-4FB2-911D-7EA8A5CD618E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Time Card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ZING A PAYROLL TIME C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0" y="2124000"/>
            <a:ext cx="4572000" cy="2676600"/>
            <a:chOff x="2286000" y="2124000"/>
            <a:chExt cx="4572000" cy="26766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0" r="0" b="56258"/>
            <a:stretch/>
          </p:blipFill>
          <p:spPr>
            <a:xfrm>
              <a:off x="2286000" y="2124000"/>
              <a:ext cx="4572000" cy="26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rcRect l="6664" t="1253" r="83341" b="93785"/>
            <a:stretch/>
          </p:blipFill>
          <p:spPr>
            <a:xfrm>
              <a:off x="5791320" y="4430880"/>
              <a:ext cx="45720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0A69-DBAE-4094-B27F-67C959A455ED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486400" y="4667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Hours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NG EMPLOYEE HOURS 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63720" y="1447920"/>
            <a:ext cx="3643200" cy="4876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38680" y="1981080"/>
            <a:ext cx="1392120" cy="990720"/>
            <a:chOff x="3838680" y="1981080"/>
            <a:chExt cx="1392120" cy="990720"/>
          </a:xfrm>
        </p:grpSpPr>
        <p:sp>
          <p:nvSpPr>
            <p:cNvPr id="100" name=""/>
            <p:cNvSpPr/>
            <p:nvPr/>
          </p:nvSpPr>
          <p:spPr>
            <a:xfrm>
              <a:off x="3838680" y="2209680"/>
              <a:ext cx="1295280" cy="762120"/>
            </a:xfrm>
            <a:custGeom>
              <a:avLst/>
              <a:gdLst/>
              <a:ahLst/>
              <a:rect l="l" t="t" r="r" b="b"/>
              <a:pathLst>
                <a:path w="816" h="480">
                  <a:moveTo>
                    <a:pt x="0" y="480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19680" y="19810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21320" y="4038480"/>
            <a:ext cx="712800" cy="762120"/>
            <a:chOff x="4621320" y="4038480"/>
            <a:chExt cx="712800" cy="762120"/>
          </a:xfrm>
        </p:grpSpPr>
        <p:sp>
          <p:nvSpPr>
            <p:cNvPr id="103" name=""/>
            <p:cNvSpPr/>
            <p:nvPr/>
          </p:nvSpPr>
          <p:spPr>
            <a:xfrm>
              <a:off x="4621320" y="4038480"/>
              <a:ext cx="533160" cy="762120"/>
            </a:xfrm>
            <a:custGeom>
              <a:avLst/>
              <a:gdLst/>
              <a:ahLst/>
              <a:rect l="l" t="t" r="r" b="b"/>
              <a:pathLst>
                <a:path w="336" h="480">
                  <a:moveTo>
                    <a:pt x="0" y="0"/>
                  </a:moveTo>
                  <a:lnTo>
                    <a:pt x="336" y="0"/>
                  </a:lnTo>
                  <a:lnTo>
                    <a:pt x="336" y="480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23000" y="41958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716200" y="5416560"/>
            <a:ext cx="2617920" cy="411120"/>
            <a:chOff x="2716200" y="5416560"/>
            <a:chExt cx="2617920" cy="411120"/>
          </a:xfrm>
        </p:grpSpPr>
        <p:sp>
          <p:nvSpPr>
            <p:cNvPr id="106" name=""/>
            <p:cNvSpPr/>
            <p:nvPr/>
          </p:nvSpPr>
          <p:spPr>
            <a:xfrm>
              <a:off x="2716200" y="5484960"/>
              <a:ext cx="2438280" cy="274680"/>
            </a:xfrm>
            <a:custGeom>
              <a:avLst/>
              <a:gdLst/>
              <a:ahLst/>
              <a:rect l="l" t="t" r="r" b="b"/>
              <a:pathLst>
                <a:path w="336" h="480">
                  <a:moveTo>
                    <a:pt x="0" y="0"/>
                  </a:moveTo>
                  <a:lnTo>
                    <a:pt x="336" y="0"/>
                  </a:lnTo>
                  <a:lnTo>
                    <a:pt x="336" y="480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23000" y="54165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04920" y="5805360"/>
            <a:ext cx="1828440" cy="411120"/>
            <a:chOff x="304920" y="5805360"/>
            <a:chExt cx="1828440" cy="411120"/>
          </a:xfrm>
        </p:grpSpPr>
        <p:sp>
          <p:nvSpPr>
            <p:cNvPr id="109" name=""/>
            <p:cNvSpPr/>
            <p:nvPr/>
          </p:nvSpPr>
          <p:spPr>
            <a:xfrm flipH="1">
              <a:off x="456840" y="6010200"/>
              <a:ext cx="1676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58053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86400" y="369252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Hours Reg and Hours OT columns and enter the tot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271764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number of overtime hours and enter the am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144792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number   of regular hours for each day and enter the am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912D-2479-4E5F-B02E-4EBB646FD3F2}" type="slidenum">
              <a:t>3</a:t>
            </a:fld>
          </a:p>
        </p:txBody>
      </p: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NG EMPLOYEE TOTAL EAR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58680" y="1442880"/>
            <a:ext cx="3648240" cy="488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04920" y="5648400"/>
            <a:ext cx="2584080" cy="411120"/>
            <a:chOff x="304920" y="5648400"/>
            <a:chExt cx="2584080" cy="411120"/>
          </a:xfrm>
        </p:grpSpPr>
        <p:sp>
          <p:nvSpPr>
            <p:cNvPr id="118" name=""/>
            <p:cNvSpPr/>
            <p:nvPr/>
          </p:nvSpPr>
          <p:spPr>
            <a:xfrm flipH="1">
              <a:off x="374400" y="5724720"/>
              <a:ext cx="2514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920" y="56484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04920" y="5018040"/>
            <a:ext cx="2584080" cy="411120"/>
            <a:chOff x="304920" y="5018040"/>
            <a:chExt cx="2584080" cy="411120"/>
          </a:xfrm>
        </p:grpSpPr>
        <p:sp>
          <p:nvSpPr>
            <p:cNvPr id="121" name=""/>
            <p:cNvSpPr/>
            <p:nvPr/>
          </p:nvSpPr>
          <p:spPr>
            <a:xfrm flipH="1">
              <a:off x="374400" y="5384880"/>
              <a:ext cx="2514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50180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48440"/>
            <a:ext cx="1249200" cy="411120"/>
            <a:chOff x="4648320" y="5248440"/>
            <a:chExt cx="1249200" cy="411120"/>
          </a:xfrm>
        </p:grpSpPr>
        <p:sp>
          <p:nvSpPr>
            <p:cNvPr id="124" name=""/>
            <p:cNvSpPr/>
            <p:nvPr/>
          </p:nvSpPr>
          <p:spPr>
            <a:xfrm>
              <a:off x="4648320" y="54550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52484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648320" y="5581800"/>
            <a:ext cx="2163600" cy="411120"/>
            <a:chOff x="4648320" y="5581800"/>
            <a:chExt cx="2163600" cy="411120"/>
          </a:xfrm>
        </p:grpSpPr>
        <p:sp>
          <p:nvSpPr>
            <p:cNvPr id="127" name=""/>
            <p:cNvSpPr/>
            <p:nvPr/>
          </p:nvSpPr>
          <p:spPr>
            <a:xfrm>
              <a:off x="4648320" y="57880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00800" y="55818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648320" y="5913360"/>
            <a:ext cx="3078000" cy="411120"/>
            <a:chOff x="4648320" y="5913360"/>
            <a:chExt cx="3078000" cy="411120"/>
          </a:xfrm>
        </p:grpSpPr>
        <p:sp>
          <p:nvSpPr>
            <p:cNvPr id="130" name=""/>
            <p:cNvSpPr/>
            <p:nvPr/>
          </p:nvSpPr>
          <p:spPr>
            <a:xfrm>
              <a:off x="4648320" y="6118200"/>
              <a:ext cx="2741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15200" y="59133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5029200" y="14479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rate for regular time in the Rat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11464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regular earnings. Enter th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278136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rate for over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314316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overtime earnings. Enter th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380988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Amount column to calculate total earnings. Enter the amount of total earn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49C1E-DB69-4D67-9AEF-D2DCB1070401}" type="slidenum">
              <a:t>4</a:t>
            </a:fld>
          </a:p>
        </p:txBody>
      </p:sp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e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0BFB-537A-461E-8199-0F88D9CDD8FF}" type="slidenum">
              <a:t>5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2-28T16:10:44Z</dcterms:modified>
  <cp:revision>17</cp:revision>
  <dc:subject/>
  <dc:title>Lesson 12-1</dc:title>
</cp:coreProperties>
</file>