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E50B-C24D-49A9-9D9B-EBEA92AB6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3460-4B13-4E56-A0AB-6753D78BA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EDCD-ACE3-4DD1-BB40-1B3DD6933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D443-B1AD-43AD-8061-D3443AB94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CA24-A1F1-4F46-8D1E-1E7F798E4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C3B4-13A2-4306-90D6-763F24B90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CCD5-79D3-4F1D-A296-FBA918EF2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DFB6-8EC9-45E2-8AE0-D537C7E7D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77F8-9E09-4A88-A51D-4BE4470F6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10FC-C6D1-4F2A-ADEA-3F0E367ED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2BCD-870D-4C36-98B7-4AC3842B8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D614-D28B-49D4-B9CB-7DFAC5567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1264-4D16-4F86-9484-08AA7DC2D86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Chec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BANK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32050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040" y="1870200"/>
            <a:ext cx="8555040" cy="343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040" y="58514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951F-FC00-44EC-A4EB-9EEF94B98541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PAYROLL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5518" b="14606"/>
          <a:stretch/>
        </p:blipFill>
        <p:spPr>
          <a:xfrm>
            <a:off x="304920" y="1828800"/>
            <a:ext cx="8534160" cy="337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9320" y="5486400"/>
            <a:ext cx="77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 of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4640" y="5851440"/>
            <a:ext cx="57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6D0D-AD12-4988-AEA8-15EA830E9C2B}" type="slidenum">
              <a:t>3</a:t>
            </a:fld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29Z</dcterms:modified>
  <cp:revision>16</cp:revision>
  <dc:subject/>
  <dc:title>Lesson 12-1</dc:title>
</cp:coreProperties>
</file>