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B708-FF21-415B-B8C7-1C6EB7FD1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B6A3-5D50-481E-BA84-61B85894A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418D-502B-4B2E-9B1A-AF6FE564A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7C52-2C19-446E-BE42-71337055E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FED6-9779-4A97-8F65-845032A19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8DAA-EB9B-49EC-81AE-8F39A236F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C377-FD6C-4E56-875B-8E7918D17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9FBF-2B26-495F-AD2F-9F5903CA9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784C-1308-46BD-826C-C43B6F2D2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790E-81B4-4CA3-A539-1A74685A0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D163-276F-4BCB-B301-3CA42B091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AFB6-2B91-4CC4-A83F-06F221875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ACE3-EF5F-46A5-9002-17460BC9E0C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Chec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BANK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5486400"/>
            <a:ext cx="32050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040" y="1870200"/>
            <a:ext cx="8555040" cy="343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1040" y="58514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CABD-78C1-4639-A2DA-89548FCCA6D2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PAYROLL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5518" b="14606"/>
          <a:stretch/>
        </p:blipFill>
        <p:spPr>
          <a:xfrm>
            <a:off x="304920" y="1828800"/>
            <a:ext cx="8534160" cy="337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9320" y="5486400"/>
            <a:ext cx="77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 of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44640" y="5851440"/>
            <a:ext cx="57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2DAF-2090-492C-AB08-A6F651C6BAA8}" type="slidenum">
              <a:t>3</a:t>
            </a:fld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29Z</dcterms:modified>
  <cp:revision>16</cp:revision>
  <dc:subject/>
  <dc:title>Lesson 12-1</dc:title>
</cp:coreProperties>
</file>