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0048-F240-4B17-8B86-F8E489713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2F8D-921F-4BD2-BBAE-6467D6D5D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ED1D-32E1-442E-BE61-453F32AA5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5EB6-80D9-4088-BE5F-D1F5DE477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C8E8-DCBD-48CE-99A9-E6E204C25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F4D5-2B86-444F-8313-B7FE7B38F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2512-1F9F-4257-BFF3-824D3A8F0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CC53-7044-42FC-84E3-BB5812686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D2C2-1969-4552-A87A-8806C6E65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52B9-1D42-46DF-8950-BED191F03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01F2-1B3A-4D61-B6F6-3BA7CA17B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7F8E-6C26-43C8-896E-DCA3714BB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F992-B6E3-4658-98B2-52600DD3642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Recor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890" b="8374"/>
          <a:stretch/>
        </p:blipFill>
        <p:spPr>
          <a:xfrm>
            <a:off x="304920" y="1371600"/>
            <a:ext cx="85341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100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364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1920" y="18288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9625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936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1524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95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0536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36576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2051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Health insurance premium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06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ayment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0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45068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Other employee payrol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110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4807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ota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411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Federal incom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51084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713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ocial security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54086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Total, prove, and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014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Medicar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5708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Check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205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y period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E23F-7E56-4BB6-9E3D-E1DFC962A4FE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 EARNINGS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01680" y="1447920"/>
            <a:ext cx="6713640" cy="4267080"/>
            <a:chOff x="2101680" y="1447920"/>
            <a:chExt cx="6713640" cy="42670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rcRect l="0" t="0" r="0" b="76325"/>
            <a:stretch/>
          </p:blipFill>
          <p:spPr>
            <a:xfrm>
              <a:off x="2101680" y="1447920"/>
              <a:ext cx="6713640" cy="11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"/>
            <p:cNvGrpSpPr/>
            <p:nvPr/>
          </p:nvGrpSpPr>
          <p:grpSpPr>
            <a:xfrm>
              <a:off x="2101680" y="2995560"/>
              <a:ext cx="6713640" cy="2719440"/>
              <a:chOff x="2101680" y="2995560"/>
              <a:chExt cx="6713640" cy="2719440"/>
            </a:xfrm>
          </p:grpSpPr>
          <p:pic>
            <p:nvPicPr>
              <p:cNvPr id="124" name="" descr=""/>
              <p:cNvPicPr/>
              <p:nvPr/>
            </p:nvPicPr>
            <p:blipFill>
              <a:blip r:embed="rId2"/>
              <a:srcRect l="0" t="80509" r="0" b="0"/>
              <a:stretch/>
            </p:blipFill>
            <p:spPr>
              <a:xfrm>
                <a:off x="2101680" y="4775040"/>
                <a:ext cx="6713640" cy="9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3"/>
              <a:srcRect l="0" t="39460" r="0" b="27888"/>
              <a:stretch/>
            </p:blipFill>
            <p:spPr>
              <a:xfrm>
                <a:off x="2101680" y="2995560"/>
                <a:ext cx="6713640" cy="157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"/>
          <p:cNvSpPr/>
          <p:nvPr/>
        </p:nvSpPr>
        <p:spPr>
          <a:xfrm>
            <a:off x="23400" y="5867280"/>
            <a:ext cx="25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Total and 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029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nings, deductions,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09556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04200" y="29718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45260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day of qua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65904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73996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94820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742840" y="1717560"/>
            <a:ext cx="738360" cy="3198960"/>
            <a:chOff x="2742840" y="1717560"/>
            <a:chExt cx="738360" cy="3198960"/>
          </a:xfrm>
        </p:grpSpPr>
        <p:sp>
          <p:nvSpPr>
            <p:cNvPr id="135" name=""/>
            <p:cNvSpPr/>
            <p:nvPr/>
          </p:nvSpPr>
          <p:spPr>
            <a:xfrm flipH="1">
              <a:off x="2742840" y="1717560"/>
              <a:ext cx="738360" cy="319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4880" y="267192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81360" y="3255840"/>
            <a:ext cx="609120" cy="914400"/>
            <a:chOff x="1881360" y="3255840"/>
            <a:chExt cx="609120" cy="914400"/>
          </a:xfrm>
        </p:grpSpPr>
        <p:sp>
          <p:nvSpPr>
            <p:cNvPr id="138" name=""/>
            <p:cNvSpPr/>
            <p:nvPr/>
          </p:nvSpPr>
          <p:spPr>
            <a:xfrm>
              <a:off x="2185920" y="325584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1360" y="356076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8129520" y="53341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50440" y="4822920"/>
            <a:ext cx="32040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34440" y="38098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328920" y="2544480"/>
            <a:ext cx="4952880" cy="2359440"/>
            <a:chOff x="3328920" y="2544480"/>
            <a:chExt cx="4952880" cy="2359440"/>
          </a:xfrm>
        </p:grpSpPr>
        <p:grpSp>
          <p:nvGrpSpPr>
            <p:cNvPr id="144" name=""/>
            <p:cNvGrpSpPr/>
            <p:nvPr/>
          </p:nvGrpSpPr>
          <p:grpSpPr>
            <a:xfrm>
              <a:off x="3328920" y="2544480"/>
              <a:ext cx="4952880" cy="2359440"/>
              <a:chOff x="3328920" y="2544480"/>
              <a:chExt cx="4952880" cy="23594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328920" y="4629240"/>
                <a:ext cx="4572000" cy="274680"/>
                <a:chOff x="3328920" y="4629240"/>
                <a:chExt cx="4572000" cy="2746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368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448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8528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607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690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3770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8850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929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3328920" y="4629240"/>
                  <a:ext cx="4572000" cy="274680"/>
                  <a:chOff x="3328920" y="4629240"/>
                  <a:chExt cx="4572000" cy="2746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3328920" y="462924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3328920" y="4629240"/>
                    <a:ext cx="4572000" cy="274680"/>
                    <a:chOff x="3328920" y="4629240"/>
                    <a:chExt cx="4572000" cy="27468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900920" y="462924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328920" y="4629240"/>
                      <a:ext cx="457200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9" name=""/>
              <p:cNvGrpSpPr/>
              <p:nvPr/>
            </p:nvGrpSpPr>
            <p:grpSpPr>
              <a:xfrm>
                <a:off x="3986280" y="2544480"/>
                <a:ext cx="4295520" cy="2094120"/>
                <a:chOff x="3986280" y="2544480"/>
                <a:chExt cx="4295520" cy="209412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3986280" y="2544480"/>
                  <a:ext cx="4295520" cy="275040"/>
                  <a:chOff x="3986280" y="2544480"/>
                  <a:chExt cx="4295520" cy="2750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V="1">
                    <a:off x="44719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V="1">
                    <a:off x="49291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V="1">
                    <a:off x="54626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>
                    <a:off x="5919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>
                    <a:off x="63770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69102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V="1">
                    <a:off x="73674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V="1">
                    <a:off x="7773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3986280" y="2544480"/>
                    <a:ext cx="4295520" cy="275040"/>
                    <a:chOff x="3986280" y="2544480"/>
                    <a:chExt cx="4295520" cy="27504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 flipV="1">
                      <a:off x="8281800" y="254448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3986280" y="2544480"/>
                      <a:ext cx="4295520" cy="275040"/>
                      <a:chOff x="3986280" y="2544480"/>
                      <a:chExt cx="4295520" cy="275040"/>
                    </a:xfrm>
                  </p:grpSpPr>
                  <p:sp>
                    <p:nvSpPr>
                      <p:cNvPr id="172" name=""/>
                      <p:cNvSpPr/>
                      <p:nvPr/>
                    </p:nvSpPr>
                    <p:spPr>
                      <a:xfrm flipV="1">
                        <a:off x="3986280" y="2544480"/>
                        <a:ext cx="0" cy="27468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3986280" y="2819520"/>
                        <a:ext cx="42955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74" name=""/>
                <p:cNvSpPr/>
                <p:nvPr/>
              </p:nvSpPr>
              <p:spPr>
                <a:xfrm flipV="1">
                  <a:off x="5614920" y="2809800"/>
                  <a:ext cx="0" cy="18288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5441760" y="333684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A61A-A2F1-4670-8FA8-3BE6C260C8A4}" type="slidenum">
              <a:t>3</a:t>
            </a:fld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earnings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C0F7-4B4B-4994-80A0-E26C04E26ACB}" type="slidenum">
              <a:t>4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6:02:12Z</dcterms:modified>
  <cp:revision>17</cp:revision>
  <dc:subject/>
  <dc:title>Lesson 12-1</dc:title>
</cp:coreProperties>
</file>