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8D1D-9E36-49EA-A2AF-DA7D81634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F949-F367-4DC7-999F-69DBAC3AC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3F0B-E1CB-4D0D-97C5-9AC03D133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DEFE-C421-438D-BE91-E1C18013F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23A7-3705-4D32-AE1B-54DEB0D42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A216-A2AF-4DF2-954C-7D414075C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7835-6531-46DC-9D19-2F0DF548D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7B37-55A1-4947-A689-34619E408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CF94-030A-4A30-BFCE-A4D489393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1DFF-0110-4B86-B970-574526AAC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7975-E6E6-4163-8D3B-0C2D5B5A6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4BB1-D8BD-4F20-ADEE-24C14BE92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1FF-F13C-445F-B950-7E54D2377DD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rs.gov/app/understandingTaxes/jsp/hows/tt/module01/tax_mod1_1.j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ermining Payroll Tax Withhold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WITHHOLDING ALLOWANC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5867280" cy="306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5320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3200" y="26478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65720" y="35622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565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name an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916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social securit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26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appropriate marital statu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618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number of withholding allowances clai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96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signs and dates th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2BBD-4059-4636-B131-119EB7B156C7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INCOME TAX WITHHOLDING – MARRIED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1447920"/>
            <a:ext cx="8533800" cy="3200040"/>
            <a:chOff x="304920" y="1447920"/>
            <a:chExt cx="8533800" cy="32000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891" t="0" r="0" b="81211"/>
            <a:stretch/>
          </p:blipFill>
          <p:spPr>
            <a:xfrm>
              <a:off x="304920" y="1447920"/>
              <a:ext cx="85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891" t="47382" r="0" b="40751"/>
            <a:stretch/>
          </p:blipFill>
          <p:spPr>
            <a:xfrm>
              <a:off x="304920" y="3047040"/>
              <a:ext cx="853380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rcRect l="891" t="93078" r="0" b="0"/>
            <a:stretch/>
          </p:blipFill>
          <p:spPr>
            <a:xfrm>
              <a:off x="304920" y="4105440"/>
              <a:ext cx="8533800" cy="54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60200" y="14940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52440" y="3632040"/>
            <a:ext cx="447840" cy="1315800"/>
            <a:chOff x="352440" y="3632040"/>
            <a:chExt cx="447840" cy="1315800"/>
          </a:xfrm>
        </p:grpSpPr>
        <p:sp>
          <p:nvSpPr>
            <p:cNvPr id="111" name=""/>
            <p:cNvSpPr/>
            <p:nvPr/>
          </p:nvSpPr>
          <p:spPr>
            <a:xfrm>
              <a:off x="57168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181400" y="3632040"/>
            <a:ext cx="447840" cy="1315800"/>
            <a:chOff x="4181400" y="3632040"/>
            <a:chExt cx="447840" cy="1315800"/>
          </a:xfrm>
        </p:grpSpPr>
        <p:sp>
          <p:nvSpPr>
            <p:cNvPr id="114" name=""/>
            <p:cNvSpPr/>
            <p:nvPr/>
          </p:nvSpPr>
          <p:spPr>
            <a:xfrm>
              <a:off x="440064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140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4920" y="5121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ppropriate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486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employee’s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851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wages and number of allowance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7F93-EEC9-4AE2-B088-3C903C99C652}" type="slidenum">
              <a:t>3</a:t>
            </a:fld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20D1-9A5D-46C8-AF13-AD74699DAD51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b"/>
                </a:solidFill>
                <a:uFillTx/>
                <a:latin typeface="Arial"/>
                <a:hlinkClick r:id="rId1"/>
              </a:rPr>
              <a:t>http://www.irs.gov/app/understandingTaxes/jsp/s_student_tutorials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B79C-8756-4C2B-B2DB-226D80AD4B47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5:55:39Z</dcterms:modified>
  <cp:revision>19</cp:revision>
  <dc:subject/>
  <dc:title>Lesson 12-1</dc:title>
</cp:coreProperties>
</file>